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319-74E8-42C6-AF62-AA84A885BCEB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8B36-AD89-4E83-A836-B647256BCB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10DA-1077-443A-ACA5-6BF3911143A0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FDA6-B3E6-46A4-9EFD-260BEA73475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88620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88620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B23-ACDC-433E-ACA4-515A9028349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FA3-354C-4BC1-A39B-CBDEBFB8D7D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FE14-829D-4DCC-8B9A-468848560F4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A557-1808-44A6-9B8D-C5598DB82AA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7200-44C5-4D27-90EE-2D10134E1CB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298B-0664-4D1F-97BB-338B398ADE3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372C-9479-4091-A882-93C34115B607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FAC1-E3A4-4C97-8CE3-DE387746A85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503-93B1-40DB-B06F-9305F668A45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0B7C-3FA0-48F7-8C80-04C915491A9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2502-BBBF-4051-9DB5-8374B3D26F7F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137F-65CA-400E-8859-5BC26BDF37F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A890-9E15-4A8D-9152-A53456AB0F9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4BAF-EDCE-44B2-A449-DA6B9FEE267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B32F-955D-433E-BAE8-7251370E8E9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7F4C-763E-4699-A1C5-0DB0C740FA6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5389-DA40-4BA5-A119-EB3D60823810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4917-B8B0-4409-AEB0-538672713F6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5B7C-841A-491C-8925-1E2CF01DB7D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7CB9-3F91-430E-A7CE-594B80CC1CF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E01-4BB8-4CCE-BF9C-32E6E52F3B3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40CD-25AA-4A99-87ED-6794E3BDB5D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0A91-39FB-4FCD-96EC-A4DB2AF093C9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A8DB-7973-4BFC-B29F-118FF22F081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2CCA-8C0E-44EA-806A-7B50CC815320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0827-5D0E-4EAE-8E21-BBAB1CF94BF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DE22-79CF-418A-9D72-DE71DADFBF0F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A09A-CEB8-4B74-8975-646EC091C85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ED0-3EE7-4597-B662-969B52577C8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CE6F-6210-421F-ABCF-5198CC27FDE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1C6-4679-41FF-8AF6-039B8642FDDF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CD4A-7263-4096-B371-A4A28EBE94F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09F-544E-4807-BD8F-888ECFE9666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FDE4-37F1-4A11-A536-F8312710A29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F2B9-EFD9-42CF-9092-02452FFB478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B9E6-B39A-4458-A19A-BF7C9273FD7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DC7D-A2E4-4B60-A2DD-244F70F0CB7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3E7C-83BE-4ABC-A4B9-E6E2640FEDE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821-BA6A-4150-A51A-20A0A389D2A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708-8188-4923-AA65-DD1E4B59FF3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4A49-B643-4E51-BEA6-9390EE90526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5A9C-49CC-4A7A-AFBC-BC1A93318B6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DD73-A29F-4C89-AEC7-5E2A5F18899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7CF-1E3A-4DEF-A543-E7FDD6D8C98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6BE-2ABB-4A62-8562-B8802725A76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FCB-ED3E-4D91-ADCF-705EDF4248E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0E3-2DFB-4927-88C2-692F472967EF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CE75-C835-45B5-B3E1-0B0D4BE36D0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5A87-AF8C-462B-8221-963523CC8462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8A24-591E-4712-8EEE-68B08E366CA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5588-389C-4B7D-B324-6C78746C171F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6DC-3FD8-4C85-BB38-71E95DE8459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00B3-4894-4180-AF12-64AA5D9F6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DFA0-857A-461F-B642-438BD25F8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3BAC-BA6B-44B6-BF80-CCF139C6C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2B30-DAE3-4E66-A350-66E50778E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E9A6-943A-4E36-B5B8-FD48ED9B3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1E78-030E-4BC8-8DFC-E829AC281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433D-7B94-461A-A6EB-AA2E2FB10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F748-5204-4C0D-BA9D-7E0F0D3D7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A5EB-89AD-45FB-BF39-9475D2589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EA4A-7F43-403B-B25F-090874F8D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5603-0041-4ED8-936C-CCD58176D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E0E8-081C-4931-AC43-000EB8608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5132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6E0C-A68F-4D0A-83EA-B616C6D4602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C6EB-C98E-4028-BF17-9EE10CBBB32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2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Context of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odern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zati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Diversity, Quality,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International)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97160" y="4064040"/>
            <a:ext cx="6349680" cy="15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Joseph E. Champoux,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tional Behavior: Integrating Individuals, Groups, and Organiz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, 5e. New York: Routledge, 2016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138-7412-4C28-BB08-98A27042063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diversity: react to the presence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ue diversity: aggressively embra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for diversity: aggressively recruit and hire people of diverse 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83C-A34F-44DA-A125-62988E6AA64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all parts of an organization to ensure quality products or serv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n trace its roots to the 192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gnored by American managers until forced to focus on it by competitive for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names such as total quality management, Six Sigma quality, ISO 900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 (QM) covers them a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B86-4340-475C-996C-9B4ADF32767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ilosop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etting it right the first tim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 of manag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ols and techniques help manage for quality and 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as roots in manufacturing but applies to all organiz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E66F-59B1-482B-95F8-627E356D947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uilt upon concepts dating to at least the 1920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American contributors such as W. Edwards Deming, Joseph M. Jur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Japanese contributors: Kaoru Ishikawa, Genichi Taguch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rldwide phenomenon no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 awards in different countries and world reg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national Organization for Standardization (ISO): international quality standards—ISO 9000 and beyon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61C-B226-48E9-A872-6437A7F82BC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a total system’s view of the organization. Reaches beyond its boundari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dependence of outside people, outside organizations, and groups within the organization to manage fo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s, 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4B1C-DB23-4113-882D-66537B9C0EF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ew organizations as a system of processes, not vertical chain-of-comm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hasiz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 interdepend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le of feedback in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k customers and suppliers: discover shifts in expectations and quality requirem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9AC-0C64-4CEA-83A1-2517D01BEBC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s and techniques of Q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t people watch work processes to ensure a quality product or serv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n employees in the use of the too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st QM tools and techniques let organizations analyze their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ypically done by teams of people drawn from all parts of the organization affected by the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AE4B-BC90-4E0A-964F-86E985C4D53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M differs from other ways of manag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long-term commitment to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lity is everyone’s job, not the job of a quality-control depart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nsely customer focused: demands that all organization members share that foc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high involvement in the work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7510-3E6B-480B-9FBE-DCD32FBD308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ving toward QM presents massive change to an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people to reframe the way they think about their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transformations might account for some QM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0A1-166A-4F33-9BAA-231B6F56D5A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uting power and computer feat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munications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ther technolo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ials technology and enginee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06A1-6187-46DE-8CDB-5715CB31C3C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workforce divers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several diversity dimens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workforce diversity effects on organizations and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the direction in which many organizations are headed in managing for qual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quality management and its histor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the likely effects of quality management on an organizat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613-16CD-44FD-9E76-CD8C6BFB63D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erial role cha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ople in scattered pla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tworks will act as coordinating mechanisms, replacing face-to-face inte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telecommu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555-FB8F-4CE2-B1A3-651829803E5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w strate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lexibility: thoroughly understand customer needs and variations among marke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vades the design and response of manufacturing and service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ludes a thorough understanding of customer needs and market vari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ter is especially true for multinationa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3164-4510-403B-B078-09439791580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strategies require decentralized organiz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st responses to meet shifting market and customer nee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functional teams to tightly integrate  business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B97D-236D-4DDD-AE85-EE4F1C29C5A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f-managing tea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volved in all parts of the business process affecting a cust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ll do much of the selection and socialization of new 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rtual organizations: link to various partners over the Interne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7A0-E8CB-4B5C-80C8-5CABB78C231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et commer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ecast: Multibillions of dollars in future s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ggest growth areas: computers, software, books, music, vide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: Amazon.com offers millions of book titles, outstripping Barnes &amp; No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e to set up commercial Web si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servers predict a flood of upstarts: new generation of competit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FDAF-3768-4565-AFCF-DD47AD4D83C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ly interconnected world requires managers to have a global perspec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odern managers must think of entire world as source of labor, materials, and market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ighly interconnected economies around the worl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chnology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e trade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s for manag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018-073D-415A-9487-5EE29E60E21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untry culture dimensions that imply acceptable management behavior and organizational for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wer distance: degree of inequality among people a culture considers norm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certainty avoidance: value placed on predictability, structure, stabi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ism: value placed on acting alone and not as part of a grou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culinity: value placed on decisiveness, assertiveness, and individual achie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ng-term orientation: value placed on persistence, status, thrif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D54-42A5-4918-A848-8ED85B3CBA8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for management and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untries in each quadrant (textbook Figure 2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: Austria, Germany, Isra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: Mexico, Panama, Guatemal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B79C-53E5-46B0-80AF-0C14C81FDBB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I: Denmark, Sweden, Republic of Irel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V: China, Malaysia, Singap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ddle of each dimension countries: United States, Canada, The Netherlan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line how technological changes will affect modern organizations and their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st the effects of specific technologies on modern organizat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some issues and implications of managing organizations in an increasingly global environ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y some dimensions of country cultures that distinguish one culture from anot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DD4F-4A75-4B11-8F7A-F708950EB8F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2AD8-FA06-439A-94A4-0D9CC908521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Organizations, and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lobal Environment of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2F52-1262-4249-AC26-758D9A4E8FF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roduction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595680" y="2104920"/>
            <a:ext cx="1917720" cy="184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025800" y="3103560"/>
            <a:ext cx="191772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4334040" y="3090960"/>
            <a:ext cx="191736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32280" y="2384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15880" y="381312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ch-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137920" y="3854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260440" y="1617840"/>
            <a:ext cx="4656240" cy="3921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046760" y="1620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033800" y="49514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550600" y="57150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action Among the Contex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A7E2-B624-41B5-849E-1335BCE0575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ces in workforce composition based on personal and background factors of peo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me dimensions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ysical ab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mily stat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315440" y="5562720"/>
            <a:ext cx="6558840" cy="459720"/>
          </a:xfrm>
          <a:prstGeom prst="rect">
            <a:avLst/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e textbook Figure 2.1 for a more complete list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E982-91D0-44BF-9F95-D8ACD9A561E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jections show more women, more minorities, and older workers in the work for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ect strong regional dif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fferences in people also present different worldviews to an organiz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see the world through different perceptual len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: harnessing these differences as opportunities to pursue the organization’s mis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9EBB-1DA9-4826-ABCE-6DC11774F0D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llenges to human resource management and work poli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parents: work schedules and on-site day c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le parent: time off to tend to sick chil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tive Americans: work schedules and their culture’s celebration perio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abled: special access to building and work area desig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-time: job shar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5220-6073-437E-BE4B-42A44C449A2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3651120" y="2654280"/>
            <a:ext cx="1841760" cy="1917720"/>
          </a:xfrm>
          <a:prstGeom prst="ellipse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8480" y="3200400"/>
            <a:ext cx="141876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733080" y="3146400"/>
            <a:ext cx="91008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38160" y="5562720"/>
            <a:ext cx="185184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 f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514240" y="34290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486400" y="3429000"/>
            <a:ext cx="1203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572000" y="4619520"/>
            <a:ext cx="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830040" y="3219480"/>
            <a:ext cx="1504440" cy="820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rkfor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01720" y="185724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ree views of managing workforce 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seph E. Champoux, Ph.D.</dc:creator>
  <dc:description/>
  <dc:language>en-US</dc:language>
  <cp:lastModifiedBy>Joseph E Champoux, PhD</cp:lastModifiedBy>
  <cp:lastPrinted>2002-02-08T18:37:31Z</cp:lastPrinted>
  <dcterms:modified xsi:type="dcterms:W3CDTF">2016-06-10T15:47:11Z</dcterms:modified>
  <cp:revision>247</cp:revision>
  <dc:subject/>
  <dc:title>Chapter 1 Introduction</dc:title>
</cp:coreProperties>
</file>