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BB69-6D1E-4CEE-A970-DFEBC8BD1284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D361-B67B-4F40-AA21-736D849CCA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A8A4-3F6E-4366-9D2A-29B5AD67FC5A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84C8-C25E-41B1-9F68-27AE237B830C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886200" y="158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886200" y="8704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8704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158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42B1-47BF-445D-9961-4740D3616833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C34F-08BA-43B9-A3CE-0911880595B3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6735-BADA-4FD6-8C22-20B302E75A01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9558-8AED-4622-B6DE-D9A1719F001A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D7F5-F4AF-4C0F-89CA-8B8A0F63876C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41E3-E69C-4B7B-9095-380CE87B4BBB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66CB-34AF-49C8-8E35-8A52C0C94CF6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22A0-1585-4AFD-8FA1-020BE950E6E0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A5BB-4DBD-4F67-BE18-A65F3980F317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9DC6-895F-464A-9D44-63F49D8C9858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628D-DBE9-49DF-9DCE-285BAE44BBEA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2599-DB4D-4067-A30B-3F1B808078F4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F8E1-4DA0-46F8-B70E-AD2427FECAE4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4DC6-B0EE-42D5-9526-4AAE89B12154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BC70-EF35-4BFF-9A66-C628BE3E9ED0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CC6D-9794-4537-8CDE-B97A4711858C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282C-16BB-4ADD-89F6-02A0B1980BF4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DB74-CEA3-4EA6-9499-0BFF17E1DD07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D4BF-E74E-408D-A191-1D739C42B556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EBF7-CE39-4E6D-B1D3-B79013796AA5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6543-3E68-4128-9FB3-40BBD0515DFD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420C-5F53-4DCD-923C-EBD5BD448740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EE3B-AA73-4D33-8CB7-543DC55B6837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4F44-D810-4B7C-8E55-F7B9F33D23E0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715C-8F64-4036-9B6A-B7180C1225B9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CC7F-435B-475D-B227-5351A2389D94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987A-4A71-493E-8687-900A600B9993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1595-CD18-4829-AFE6-088716307B4F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110F-10E8-4476-BB5C-1A0E26456644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4433-AD1A-41DC-A01E-A6791B8D40D7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1894-2666-4F38-8EB4-F792A543F76D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0D6A-7BC3-46FE-BFB6-46F020E2A638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8101-A860-4152-8757-DB1F0EEBCF48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2F2C-0DB3-4869-9892-C05DB3E17292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9AAA-2866-4BF5-A111-74C8AC4C1446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700E-706B-4945-A385-D9C1477B7FC3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C224-269D-4B42-8C30-982BB90F17FE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6864-2E30-4FC5-B2E4-E2E537A325D9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6CFC-0F40-4161-963F-587C7A57BB7B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6208-BD52-480A-9A7D-357B7A7BFFD3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C98E-001C-4E5E-8E2D-F634AF20A103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7BB6-3A5C-4D9A-94ED-AA423148771F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83A8-C8FF-4449-8E15-91DB400D623B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36EA-C6CF-4575-9C95-C6A8413C6ECA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43D6-7E39-4997-A8B7-B27B2DA3627B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0FF0-B026-4BEC-82D5-C3BB2FF84D79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B15B-253E-47CD-A0DB-728E465DC4BD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31CC-402D-4121-97FC-3B442A914760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6F53-2AD6-4C05-9D70-1B89300100A8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74D6-B359-4BFB-8204-A258F2FC57F6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35A1-C778-43B5-85DE-79A5868117EA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8493-5E59-45E6-A862-3A8C8B3D6E60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00EF2-8CDB-4655-B881-E22B8596F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CE4AE-9DD7-4B9D-8037-723CEAC0E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A2A7D-789C-44FE-B286-F0F6C91C4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3A0C3-F3AD-4513-97AB-FBDA077FAF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0D6C2-783E-4E8B-90F4-31EF66B69B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0B73-6C50-42B8-9415-1F3C3735C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53E15-1988-4E02-BF25-FE7D526C1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77BB2-F3E4-4A3E-8504-1223095F3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EF864-0C4C-43EA-890A-579614ADE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E39DE-053C-46AA-A1CC-3C4927346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6747D-BA88-4487-8283-4FAD2EFF4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38A78-01AF-4492-932A-0D2D03A69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95132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9193-F6FD-45FA-ADC0-23975F6EA296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E0F1-981B-4304-92D8-E12DB5035B1F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hapter 2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Context of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Modern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ganizati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Diversity, Quality,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chnology, International)</a:t>
            </a:r>
            <a:br>
              <a:rPr sz="3200"/>
            </a:b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97160" y="4064040"/>
            <a:ext cx="6349680" cy="15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Joseph E. Champoux, </a:t>
            </a:r>
            <a:r>
              <a:rPr b="0" i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Organizational Behavior: Integrating Individuals, Groups, and Organization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, 5e. New York: Routledge, 2016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DF41-4ADE-4B4A-B089-E3FE57879281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orkforce Diversity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aging diversity: react to the presence of workforce divers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alue diversity: aggressively embrace divers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aging for diversity: aggressively recruit and hire people of diverse backgroun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9A5B-1129-4051-85EB-11599A645FF6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aging all parts of an organization to ensure quality products or servi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n trace its roots to the 1920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gnored by American managers until forced to focus on it by competitive for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y names such as total quality management, Six Sigma quality, ISO 9000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uality management (QM) covers them al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1C92-B708-4D63-9EAB-DF7D38A4A079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ilosop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tinuous improvem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etting it right the first time”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ystem of manage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ols and techniques help manage for quality and continuous improvem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as roots in manufacturing but applies to all organiza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DBAA-7B8C-4044-AE79-3C2B710B8CAC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uilt upon concepts dating to at least the 1920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American contributors such as W. Edwards Deming, Joseph M. Jura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Japanese contributors: Kaoru Ishikawa, Genichi Taguch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orldwide phenomenon now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Quality awards in different countries and world reg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ternational Organization for Standardization (ISO): international quality standards—ISO 9000 and beyon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4C85-665B-40F5-8548-6F86CC415DDC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quires a total system’s view of the organization. Reaches beyond its boundarie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dependence of outside people, outside organizations, and groups within the organization to manage for qual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mploye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pplie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s, custome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0472-4094-4A29-BC37-EEA1590B27F6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1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iew organizations as a system of processes, not vertical chain-of-comma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mphasiz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ces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ustome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pplier interdependen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ole of feedback in continuous quality improve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k customers and suppliers: discover shifts in expectations and quality requirem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084E-2501-43FB-AD62-DF56F560908B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ols and techniques of Q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t people watch work processes to ensure a quality product or servi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ain employees in the use of the tool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st QM tools and techniques let organizations analyze their proces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ypically done by teams of people drawn from all parts of the organization affected by the proc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688A-40C3-4FBE-BE73-427CEB6709DE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M differs from other ways of manag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mphasizes long-term commitment to continuous quality improve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ality is everyone’s job, not the job of a quality-control depart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tensely customer focused: demands that all organization members share that focu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mphasizes high involvement in the work proc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72B9-104F-4AC2-AD6F-49F4369BD3A9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ving toward QM presents massive change to an organiz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quires people to reframe the way they think about their organiz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transformations might account for some QM failu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DF98-C14C-4490-96B8-94F8D934EBC7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uting power and computer featu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munications technolog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ther technolog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terials technology and engineer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ufactur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D966-9B04-443D-8CF2-5F1D581C19B2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earning Goal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plain workforce diversity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be several diversity dimension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cuss workforce diversity effects on organizations and management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be the direction in which many organizations are headed in managing for quality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cuss quality management and its history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plain the likely effects of quality management on an organization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17AB-01D6-45C4-A356-55B9724873BF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agerial role chan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ople in scattered plac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tworks will act as coordinating mechanisms, replacing face-to-face intera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ase in telecommut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BA94-F5D3-4BFA-80E0-B7C73B1CFA70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 (Cont.)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ew strateg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lexibility: thoroughly understand customer needs and variations among marke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rvades the design and response of manufacturing and service oper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ludes a thorough understanding of customer needs and market vari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tter is especially true for multinational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95C9-4AA8-4700-AA2E-829FA2F9AA1F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ganizational desig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w strategies require decentralized organiz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ast responses to meet shifting market and customer need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ross-functional teams to tightly integrate  business proces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1CEE-30E3-43EB-AC06-D5B77B3666B2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ganizational design 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lf-managing team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volved in all parts of the business process affecting a custom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ill do much of the selection and socialization of new employe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rtual organizations: link to various partners over the Interne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EA7B-D3C9-4A52-A973-93B71E40B36C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net commer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3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recast: Multibillions of dollars in future sal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3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ggest growth areas: computers, software, books, music, video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3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ample: Amazon.com offers millions of book titles, outstripping Barnes &amp; No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3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mple to set up commercial Web si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3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bservers predict a flood of upstarts: new generation of competito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559D-75ED-4F52-83A1-19DEA9C2CB1D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Global Environment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f Organization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asingly interconnected world requires managers to have a global perspectiv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Modern managers must think of entire world as source of labor, materials, and market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Highly interconnected economies around the world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echnology effec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ee trade effec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ssues for manage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9481-59E2-4103-B20B-852ADC2204B0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Global Environment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f Organizations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untry culture dimensions that imply acceptable management behavior and organizational form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wer distance: degree of inequality among people a culture considers norm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certainty avoidance: value placed on predictability, structure, stabil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dividualism: value placed on acting alone and not as part of a grou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sculinity: value placed on decisiveness, assertiveness, and individual achievem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ng-term orientation: value placed on persistence, status, thrif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A730-4180-4824-B448-1DD8FE9A20AA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Global Environment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f Organizations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wer distance and uncertainty avoidance implications for management and organiza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untries in each quadrant (textbook Figure 2.2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adrant I: Austria, Germany, Isra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adrant II: Mexico, Panama, Guatemal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C20C-11DA-47F7-8652-8D4ED7AC5D62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Global Environment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f Organizations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wer distance and uncertainty avoidance implications 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adrant III: Denmark, Sweden, Republic of Irelan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adrant IV: China, Malaysia, Singapo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iddle of each dimension countries: United States, Canada, The Netherland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earning Goals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line how technological changes will affect modern organizations and their management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st the effects of specific technologies on modern organization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cuss some issues and implications of managing organizations in an increasingly global environment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dentify some dimensions of country cultures that distinguish one culture from another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7502-CA85-4D85-85BE-7368B2E90489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87F9-2A25-4363-8107-EBB2C497ADF1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hapter Overview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orkforce Divers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uality Manag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chnology, Organizations, and Manag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Global Environment of Organiza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BF59-3BEC-4997-8CDF-366A51ADF36E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Introduction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Oval 3"/>
          <p:cNvSpPr/>
          <p:nvPr/>
        </p:nvSpPr>
        <p:spPr>
          <a:xfrm>
            <a:off x="3595680" y="2104920"/>
            <a:ext cx="1917720" cy="18417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Oval 4"/>
          <p:cNvSpPr/>
          <p:nvPr/>
        </p:nvSpPr>
        <p:spPr>
          <a:xfrm>
            <a:off x="3025800" y="3103560"/>
            <a:ext cx="1917720" cy="18414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Oval 5"/>
          <p:cNvSpPr/>
          <p:nvPr/>
        </p:nvSpPr>
        <p:spPr>
          <a:xfrm>
            <a:off x="4334040" y="3090960"/>
            <a:ext cx="1917360" cy="18414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932280" y="23842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vers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215880" y="3813120"/>
            <a:ext cx="10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ech-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log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137920" y="3854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lob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Oval 9"/>
          <p:cNvSpPr/>
          <p:nvPr/>
        </p:nvSpPr>
        <p:spPr>
          <a:xfrm>
            <a:off x="2260440" y="1617840"/>
            <a:ext cx="4656240" cy="39211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046760" y="16207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033800" y="49514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550600" y="5715000"/>
            <a:ext cx="41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teraction Among the Contex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9188-562C-4943-9541-752A76B7109C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orkforce Diversity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ces in workforce composition based on personal and background factors of peop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me dimensions of workforce divers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ysical abili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amily statu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315440" y="5562720"/>
            <a:ext cx="6558840" cy="459720"/>
          </a:xfrm>
          <a:prstGeom prst="rect">
            <a:avLst/>
          </a:prstGeom>
          <a:solidFill>
            <a:srgbClr val="969696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e textbook Figure 2.1 for a more complete listing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099E-EAAA-4838-9F51-1310FB497A58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orkforce Diversity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jections show more women, more minorities, and older workers in the work for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pect strong regional differenc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fferences in people also present different worldviews to an organiz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y see the world through different perceptual len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ssue: harnessing these differences as opportunities to pursue the organization’s miss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1AE2-BEFF-4E0A-A30F-51CCE0115ECE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orkforce Diversity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allenges to human resource management and work polic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orking parents: work schedules and on-site day ca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le parent: time off to tend to sick chil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ative Americans: work schedules and their culture’s celebration period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abled: special access to building and work area desig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rt-time: job shar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3EBF-59F8-4C28-B8E2-E71AF8FCE99E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orkforce Diversity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Oval 3"/>
          <p:cNvSpPr/>
          <p:nvPr/>
        </p:nvSpPr>
        <p:spPr>
          <a:xfrm>
            <a:off x="3651120" y="2654280"/>
            <a:ext cx="1841760" cy="1917720"/>
          </a:xfrm>
          <a:prstGeom prst="ellipse">
            <a:avLst/>
          </a:prstGeom>
          <a:solidFill>
            <a:srgbClr val="96969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68480" y="3200400"/>
            <a:ext cx="1418760" cy="454680"/>
          </a:xfrm>
          <a:prstGeom prst="rect">
            <a:avLst/>
          </a:prstGeom>
          <a:solidFill>
            <a:srgbClr val="96969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anag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733080" y="3146400"/>
            <a:ext cx="910080" cy="454680"/>
          </a:xfrm>
          <a:prstGeom prst="rect">
            <a:avLst/>
          </a:prstGeom>
          <a:solidFill>
            <a:srgbClr val="96969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638160" y="5562720"/>
            <a:ext cx="1851840" cy="454680"/>
          </a:xfrm>
          <a:prstGeom prst="rect">
            <a:avLst/>
          </a:prstGeom>
          <a:solidFill>
            <a:srgbClr val="96969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anaging f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2514240" y="34290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486400" y="3429000"/>
            <a:ext cx="12034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Line 9"/>
          <p:cNvSpPr/>
          <p:nvPr/>
        </p:nvSpPr>
        <p:spPr>
          <a:xfrm>
            <a:off x="4572000" y="4619520"/>
            <a:ext cx="0" cy="914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3830040" y="3219480"/>
            <a:ext cx="1504440" cy="820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orkfor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vers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1701720" y="1857240"/>
            <a:ext cx="57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Three views of managing workforce divers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oseph E. Champoux, Ph.D.</dc:creator>
  <dc:description/>
  <dc:language>en-US</dc:language>
  <cp:lastModifiedBy>Joseph E Champoux, PhD</cp:lastModifiedBy>
  <cp:lastPrinted>2002-02-08T18:37:31Z</cp:lastPrinted>
  <dcterms:modified xsi:type="dcterms:W3CDTF">2016-06-10T15:47:11Z</dcterms:modified>
  <cp:revision>247</cp:revision>
  <dc:subject/>
  <dc:title>Chapter 1 Introduction</dc:title>
</cp:coreProperties>
</file>