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761-32FD-42E0-94E1-42D4030C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FE7-CFEF-4DD0-BEF8-80316B7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4B3-8E7D-4FE8-BF69-C16FD9F1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375-A6A8-4647-8F17-4F5F8713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47F-0529-40B1-830A-BBF1F893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476-13FD-441E-8074-8C383BD0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B9D-8DF1-49EC-81EE-DB0576E0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9C8-B303-4B5B-9304-DF33AFA4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677-0E78-45B3-A01A-C318E685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C8B-3F69-458D-B482-9C61168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632-C057-4E28-8E7A-730308EC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78E-4F60-4238-A473-7EBB84DE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428B-2B9C-47A5-B889-A105D862D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coPlan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Construct an Airplane that carries a choco-kiss as far as possible without harming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89064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coplan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quir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irplane has to f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irplane carries a  Cocoa-K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off is the porch area outside the seminar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coa-Kiss is not damaged at take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coplane Project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teams with 6 participant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eam builds its ow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you can find at TUM or the Lidl-Supermarkt (shortly before  Garching) can be used to build the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Duration: 15:00 - 16: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time: 15:00-15: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testing: 15:45- 16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 Sto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ient Acceptance Test: 16:15-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s perform their flights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tion of the winner: 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ance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e must prominently display the name of the subsystem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e must actually demonstrating flying behavior (throwing is not allow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coa-Kiss must be undamaged after l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ient inspects the Cocoa-Kiss after the plane has come to complete standstill and determines its healthin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m whose plane actually flies, and covers the longest distance wins a p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is measured from the wall of the building to the first contact on the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s used by the cli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of Cocoa-Ki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maged (0 points), undamaged (3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 of 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0 m: 0 points, 1-5 m: 30 points, 5-15 m: 40 points, 16-20 m: 50 points, 21 or more m: 6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uty of 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rowing: 0 points, Flying: 3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w of Cocoa-Airlines wishes you a good f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397044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Labora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1:   Seminar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2:  Gla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3:  Aqu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4: Terr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5: Aur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6:34:36Z</dcterms:created>
  <dc:creator>Bernd Bruegge</dc:creator>
  <dc:description/>
  <dc:language>en-US</dc:language>
  <cp:lastModifiedBy>Bernd Bruegge</cp:lastModifiedBy>
  <dcterms:modified xsi:type="dcterms:W3CDTF">2006-05-03T07:07:54Z</dcterms:modified>
  <cp:revision>3</cp:revision>
  <dc:subject/>
  <dc:title>PowerPoint Presentation</dc:title>
</cp:coreProperties>
</file>