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BC58-2886-4AE4-A997-DA0300669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BDC9-4219-44B6-BFDB-C72F04177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F6D4-ABA3-4DD5-B2C9-6CDB4FE03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20EE-6994-4014-BC2E-D65F9925D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EFB4-746F-4183-86B6-809215CC8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8765-AB44-4655-A014-6BF0A9C9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C22D-AC14-4F0C-9C04-32486C40E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EDC0-1680-4C5B-822D-C6ADAB8BF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4A7E-53B7-45A9-8145-EB75985FE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3B22-DB13-49B0-AB53-5D748F8B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AAE6-65DF-40CF-9717-3D9D7744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3301-506C-423E-8DF3-E5B8922B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1C1D53-8B73-4049-9CFB-4C600B9FF70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84CC6B-8E40-4B01-9E64-F535C08334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esterdays N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40 Millon Customers without  access to their T-Mobile pho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ull blackout of the T-Mobile network from 15:45 to 22: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black out took so long, because most of the technicians and service personal that maintain the T-Mobile network could not be reached on their mobile phon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ason for the black out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entral computer responsible for mapping phone numbers to SIM cards had crashed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otstrapp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ootstrapping a net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inging up a network using the network itself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ootstrapping a compile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riting a compiler for a computer language using the computer language itself to code the compil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ooting a compute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 of a simple computer system activating a more complicated computer syst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ootstrap fund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rting a business without external capital. Startups that fund their business and development of their company through their own internal cash flo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ron von Münchhaus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28240" y="141768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"I was still a couple of miles above the clouds when it broke, and with such violence I fell to the ground that I found myself stunned, and in a hole nine fathoms under the grass, when I recovered, hardly knowing how to get out again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ooking down, I observed that I had on a pair of boots with exceptionally sturdy straps. Grasping them firmly, I pulled with all my might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oon I had hoist myself to the top and stepped out on terra firma without further ado.“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rom R. E. Raspe,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Singular Travels, Campaigns and Adventures of Baron Munchause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1786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Bild 6" descr=""/>
          <p:cNvPicPr/>
          <p:nvPr/>
        </p:nvPicPr>
        <p:blipFill>
          <a:blip r:embed="rId1"/>
          <a:stretch/>
        </p:blipFill>
        <p:spPr>
          <a:xfrm>
            <a:off x="7010280" y="5295960"/>
            <a:ext cx="190512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07:53:03Z</dcterms:created>
  <dc:creator>Bernd Bruegge</dc:creator>
  <dc:description/>
  <dc:language>en-US</dc:language>
  <cp:lastModifiedBy>Bernd Bruegge</cp:lastModifiedBy>
  <dcterms:modified xsi:type="dcterms:W3CDTF">2009-04-22T08:09:00Z</dcterms:modified>
  <cp:revision>2</cp:revision>
  <dc:subject/>
  <dc:title>Folie 1</dc:title>
</cp:coreProperties>
</file>