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3.wmf" ContentType="image/x-wmf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07511-C3D2-4B5E-B8B9-ADD00E8A6E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16839-511A-447C-9774-B529A034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91D24-B928-49C6-99B1-62C50E2A5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2D0EF-FAD5-4574-A114-B6F718BA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instructors: Do not change this slide. The blue box is out of the viewing area, but when animated it will appear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961BD-C2AB-4C69-B7DE-7E8B6B34B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abstra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303A6-F88B-4E20-8BAC-C0A5B4EEF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ractice there exist different meta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liennummernplatzhalt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A79FB-5966-419F-BA43-907806F1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53F342B0-9B16-4C91-9C84-78FFA8A890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791BD8F9-7F97-4430-A80C-AB44BD18DF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3F24BE9-A0E8-4AB2-AA43-236A598058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4F129B4-A827-4B53-A96F-E577326BC4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A9DAF207-7D67-401E-B54C-BAA32EFAC2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364AF6F3-F9D0-4AFB-ACA6-D9718D5BE4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36514F68-22A9-4E73-A427-9AF55E6CC8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9CF239C-4F1E-4D3A-80FB-184F9030D9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9E7A1A18-9E47-4FE9-A50B-D4A735393A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EDC2A1F-C5F3-4357-BCBE-4D1EFD84CD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8A0B6316-F046-4FF5-8B58-8A4433E7EC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29CBF30-4F5C-4F09-9F05-EBADC6210B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mg.org/technology/documents/modeling_spec_catalog.htm#MOF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5680" y="304560"/>
            <a:ext cx="78357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4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UML 2 Metamodel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UML 2, the OMG introduced the MOF to create a common approach to meta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eta model which is defined using MOF is calle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OF complia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Foliennummernplatzhalt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B7833-9213-4F4C-A9AE-B8F3004FED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vantages of MOF Compliant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can easily be compa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models can be exchanged in a standardized wa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Metadata Inter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compliant instances can live in the same metadata repository (data warehous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Meta Object Facility (MOF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seen the used the modeling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ta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-me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d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equence could be continued infinitely, but four models are enough for most modeling purpo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define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our-layer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yer M3: Meta-meta model layer (The MOF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2: Meta model layer (The UML meta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1: Model layer (The UML mod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yer M0: Information layer (the Applic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and UML are alig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infrastructure contains all the concepts needed for the specification of UML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</a:t>
            </a: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UML-specific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6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8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49" name="Textfeld 3"/>
          <p:cNvSpPr/>
          <p:nvPr/>
        </p:nvSpPr>
        <p:spPr>
          <a:xfrm>
            <a:off x="2438280" y="0"/>
            <a:ext cx="6705720" cy="177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2: UML meta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the language UML, i.e., defines concepts lik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ttribut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2 contains descriptions of elements that can be used to describe the models on the mode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1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2" name="Textfeld 3"/>
          <p:cNvSpPr/>
          <p:nvPr/>
        </p:nvSpPr>
        <p:spPr>
          <a:xfrm>
            <a:off x="2438280" y="15840"/>
            <a:ext cx="6662880" cy="149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1: UML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using any UML diagram, we instantiate the UML meta model and obtain a UM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1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pplication-specifi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4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55" name="Textfeld 3"/>
          <p:cNvSpPr/>
          <p:nvPr/>
        </p:nvSpPr>
        <p:spPr>
          <a:xfrm>
            <a:off x="2438280" y="0"/>
            <a:ext cx="670572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x0013_Layer M0: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instances of th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0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crete run-time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 the difference between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instance specific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7030a0"/>
                </a:solidFill>
                <a:latin typeface="Verdana"/>
              </a:rPr>
              <a:t>real in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hteck 5"/>
          <p:cNvSpPr/>
          <p:nvPr/>
        </p:nvSpPr>
        <p:spPr>
          <a:xfrm>
            <a:off x="6165720" y="4152960"/>
            <a:ext cx="1478160" cy="58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6"/>
          <p:cNvSpPr/>
          <p:nvPr/>
        </p:nvSpPr>
        <p:spPr>
          <a:xfrm>
            <a:off x="3848040" y="5508720"/>
            <a:ext cx="819360" cy="50148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0" name="Textfeld 7"/>
          <p:cNvSpPr/>
          <p:nvPr/>
        </p:nvSpPr>
        <p:spPr>
          <a:xfrm>
            <a:off x="2500200" y="4782960"/>
            <a:ext cx="642960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ayer M3: 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UML meta model is an instance of a yet more abstract model, namely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OF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 : M2 ≈ M2 : 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M3 contain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meta-me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eta model hierarchy of the MOF (UML-specific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2" name="Grafik 2" descr="MOF1.jpg"/>
          <p:cNvPicPr/>
          <p:nvPr/>
        </p:nvPicPr>
        <p:blipFill>
          <a:blip r:embed="rId1"/>
          <a:stretch/>
        </p:blipFill>
        <p:spPr>
          <a:xfrm>
            <a:off x="61920" y="1071720"/>
            <a:ext cx="8867880" cy="5124240"/>
          </a:xfrm>
          <a:prstGeom prst="rect">
            <a:avLst/>
          </a:prstGeom>
          <a:ln w="0">
            <a:noFill/>
          </a:ln>
        </p:spPr>
      </p:pic>
      <p:sp>
        <p:nvSpPr>
          <p:cNvPr id="563" name="Textfeld 3"/>
          <p:cNvSpPr/>
          <p:nvPr/>
        </p:nvSpPr>
        <p:spPr>
          <a:xfrm>
            <a:off x="3392640" y="4875120"/>
            <a:ext cx="5357520" cy="134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member that UML is only one possibility or modeling with 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ooked at a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ML-specifi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F describes meta models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4"/>
          <p:cNvSpPr/>
          <p:nvPr/>
        </p:nvSpPr>
        <p:spPr>
          <a:xfrm>
            <a:off x="2071800" y="228600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Ellipse 5"/>
          <p:cNvSpPr/>
          <p:nvPr/>
        </p:nvSpPr>
        <p:spPr>
          <a:xfrm>
            <a:off x="1666800" y="3614760"/>
            <a:ext cx="15001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Outline for today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33160" y="12949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odel instances to meta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F meta model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UML relates to M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Use case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mple: Class diagram me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notations for the UML meta model describe the sam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files: Adding new members to the fam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ow UML relates to MOF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MOF-complian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ML meta model is an instance of the MOF mode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see the UML meta model in a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285840" y="2859120"/>
            <a:ext cx="2428920" cy="10000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3578400" y="1600200"/>
          <a:ext cx="5108400" cy="49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8400" y="1600200"/>
                    <a:ext cx="51084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feld 85"/>
          <p:cNvSpPr/>
          <p:nvPr/>
        </p:nvSpPr>
        <p:spPr>
          <a:xfrm>
            <a:off x="6464880" y="275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4"/>
          <a:stretch/>
        </p:blipFill>
        <p:spPr>
          <a:xfrm>
            <a:off x="843120" y="1285920"/>
            <a:ext cx="1028520" cy="1305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5"/>
          <a:stretch/>
        </p:blipFill>
        <p:spPr>
          <a:xfrm>
            <a:off x="181080" y="2859120"/>
            <a:ext cx="2533680" cy="1457280"/>
          </a:xfrm>
          <a:prstGeom prst="rect">
            <a:avLst/>
          </a:prstGeom>
          <a:ln w="0">
            <a:noFill/>
          </a:ln>
        </p:spPr>
      </p:pic>
      <p:sp>
        <p:nvSpPr>
          <p:cNvPr id="577" name="Rechteck 8"/>
          <p:cNvSpPr/>
          <p:nvPr/>
        </p:nvSpPr>
        <p:spPr>
          <a:xfrm>
            <a:off x="3786120" y="157176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hteck 9"/>
          <p:cNvSpPr/>
          <p:nvPr/>
        </p:nvSpPr>
        <p:spPr>
          <a:xfrm>
            <a:off x="843120" y="1285920"/>
            <a:ext cx="1071360" cy="1305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Gewinkelte Verbindung 11"/>
          <p:cNvCxnSpPr/>
          <p:nvPr/>
        </p:nvCxnSpPr>
        <p:spPr>
          <a:xfrm rot="10800000">
            <a:off x="4895280" y="3358440"/>
            <a:ext cx="896040" cy="743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580" name="Rechteck 18"/>
          <p:cNvSpPr/>
          <p:nvPr/>
        </p:nvSpPr>
        <p:spPr>
          <a:xfrm>
            <a:off x="306360" y="2859120"/>
            <a:ext cx="240840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uppieren 24"/>
          <p:cNvGrpSpPr/>
          <p:nvPr/>
        </p:nvGrpSpPr>
        <p:grpSpPr>
          <a:xfrm>
            <a:off x="1914120" y="1454040"/>
            <a:ext cx="1872000" cy="368640"/>
            <a:chOff x="1914120" y="1454040"/>
            <a:chExt cx="1872000" cy="368640"/>
          </a:xfrm>
        </p:grpSpPr>
        <p:cxnSp>
          <p:nvCxnSpPr>
            <p:cNvPr id="582" name="Gerade Verbindung mit Pfeil 21"/>
            <p:cNvCxnSpPr>
              <a:endCxn id="577" idx="1"/>
            </p:cNvCxnSpPr>
            <p:nvPr/>
          </p:nvCxnSpPr>
          <p:spPr>
            <a:xfrm>
              <a:off x="1914120" y="1820880"/>
              <a:ext cx="18723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83" name="Textfeld 23"/>
            <p:cNvSpPr/>
            <p:nvPr/>
          </p:nvSpPr>
          <p:spPr>
            <a:xfrm>
              <a:off x="2005920" y="145404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uppieren 25"/>
          <p:cNvGrpSpPr/>
          <p:nvPr/>
        </p:nvGrpSpPr>
        <p:grpSpPr>
          <a:xfrm>
            <a:off x="2714760" y="2754360"/>
            <a:ext cx="3124440" cy="370080"/>
            <a:chOff x="2714760" y="2754360"/>
            <a:chExt cx="3124440" cy="370080"/>
          </a:xfrm>
        </p:grpSpPr>
        <p:cxnSp>
          <p:nvCxnSpPr>
            <p:cNvPr id="585" name="Gerade Verbindung mit Pfeil 26"/>
            <p:cNvCxnSpPr/>
            <p:nvPr/>
          </p:nvCxnSpPr>
          <p:spPr>
            <a:xfrm>
              <a:off x="2714760" y="3122640"/>
              <a:ext cx="312480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586" name="Textfeld 27"/>
            <p:cNvSpPr/>
            <p:nvPr/>
          </p:nvSpPr>
          <p:spPr>
            <a:xfrm>
              <a:off x="3422520" y="27543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hteck 28"/>
          <p:cNvSpPr/>
          <p:nvPr/>
        </p:nvSpPr>
        <p:spPr>
          <a:xfrm>
            <a:off x="642960" y="3929040"/>
            <a:ext cx="1714320" cy="347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uppieren 35"/>
          <p:cNvGrpSpPr/>
          <p:nvPr/>
        </p:nvGrpSpPr>
        <p:grpSpPr>
          <a:xfrm>
            <a:off x="2357280" y="3504600"/>
            <a:ext cx="1991160" cy="663120"/>
            <a:chOff x="2357280" y="3504600"/>
            <a:chExt cx="1991160" cy="663120"/>
          </a:xfrm>
        </p:grpSpPr>
        <p:cxnSp>
          <p:nvCxnSpPr>
            <p:cNvPr id="589" name="Gerade Verbindung mit Pfeil 30"/>
            <p:cNvCxnSpPr/>
            <p:nvPr/>
          </p:nvCxnSpPr>
          <p:spPr>
            <a:xfrm>
              <a:off x="2357280" y="4165920"/>
              <a:ext cx="19915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590" name="Textfeld 31"/>
            <p:cNvSpPr/>
            <p:nvPr/>
          </p:nvSpPr>
          <p:spPr>
            <a:xfrm>
              <a:off x="2507400" y="37134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1" name="Gerade Verbindung mit Pfeil 32"/>
            <p:cNvCxnSpPr/>
            <p:nvPr/>
          </p:nvCxnSpPr>
          <p:spPr>
            <a:xfrm flipH="1" flipV="1">
              <a:off x="4343040" y="3504600"/>
              <a:ext cx="360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592" name="Rechteck 36"/>
          <p:cNvSpPr/>
          <p:nvPr/>
        </p:nvSpPr>
        <p:spPr>
          <a:xfrm>
            <a:off x="3645000" y="2938320"/>
            <a:ext cx="1333440" cy="554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6"/>
          <a:stretch/>
        </p:blipFill>
        <p:spPr>
          <a:xfrm>
            <a:off x="306360" y="5286240"/>
            <a:ext cx="2181240" cy="1086120"/>
          </a:xfrm>
          <a:prstGeom prst="rect">
            <a:avLst/>
          </a:prstGeom>
          <a:ln w="0">
            <a:noFill/>
          </a:ln>
        </p:spPr>
      </p:pic>
      <p:cxnSp>
        <p:nvCxnSpPr>
          <p:cNvPr id="594" name="Gewinkelte Verbindung 40"/>
          <p:cNvCxnSpPr/>
          <p:nvPr/>
        </p:nvCxnSpPr>
        <p:spPr>
          <a:xfrm flipH="1" flipV="1">
            <a:off x="6857640" y="3364920"/>
            <a:ext cx="876960" cy="686520"/>
          </a:xfrm>
          <a:prstGeom prst="bentConnector3">
            <a:avLst>
              <a:gd name="adj1" fmla="val -698"/>
            </a:avLst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595" name="Gerade Verbindung mit Pfeil 49"/>
          <p:cNvCxnSpPr/>
          <p:nvPr/>
        </p:nvCxnSpPr>
        <p:spPr>
          <a:xfrm flipV="1">
            <a:off x="6071040" y="3429720"/>
            <a:ext cx="252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596" name="Rechteck 19"/>
          <p:cNvSpPr/>
          <p:nvPr/>
        </p:nvSpPr>
        <p:spPr>
          <a:xfrm>
            <a:off x="5838840" y="2938320"/>
            <a:ext cx="1096920" cy="58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uppieren 57"/>
          <p:cNvGrpSpPr/>
          <p:nvPr/>
        </p:nvGrpSpPr>
        <p:grpSpPr>
          <a:xfrm>
            <a:off x="1395360" y="4177440"/>
            <a:ext cx="1042200" cy="1251360"/>
            <a:chOff x="1395360" y="4177440"/>
            <a:chExt cx="1042200" cy="1251360"/>
          </a:xfrm>
        </p:grpSpPr>
        <p:cxnSp>
          <p:nvCxnSpPr>
            <p:cNvPr id="598" name="Gerade Verbindung mit Pfeil 51"/>
            <p:cNvCxnSpPr/>
            <p:nvPr/>
          </p:nvCxnSpPr>
          <p:spPr>
            <a:xfrm flipV="1">
              <a:off x="1395360" y="4177440"/>
              <a:ext cx="2160" cy="1251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arrow" w="med"/>
            </a:ln>
          </p:spPr>
        </p:cxnSp>
        <p:sp>
          <p:nvSpPr>
            <p:cNvPr id="599" name="Textfeld 56"/>
            <p:cNvSpPr/>
            <p:nvPr/>
          </p:nvSpPr>
          <p:spPr>
            <a:xfrm>
              <a:off x="1405080" y="5011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Extend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hteck 58"/>
          <p:cNvSpPr/>
          <p:nvPr/>
        </p:nvSpPr>
        <p:spPr>
          <a:xfrm>
            <a:off x="5748480" y="3995640"/>
            <a:ext cx="107136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hteck 59"/>
          <p:cNvSpPr/>
          <p:nvPr/>
        </p:nvSpPr>
        <p:spPr>
          <a:xfrm>
            <a:off x="1285920" y="4102200"/>
            <a:ext cx="1162080" cy="1434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uppieren 60"/>
          <p:cNvGrpSpPr/>
          <p:nvPr/>
        </p:nvGrpSpPr>
        <p:grpSpPr>
          <a:xfrm>
            <a:off x="2445840" y="4494960"/>
            <a:ext cx="3769200" cy="663120"/>
            <a:chOff x="2445840" y="4494960"/>
            <a:chExt cx="3769200" cy="663120"/>
          </a:xfrm>
        </p:grpSpPr>
        <p:cxnSp>
          <p:nvCxnSpPr>
            <p:cNvPr id="603" name="Gerade Verbindung mit Pfeil 61"/>
            <p:cNvCxnSpPr/>
            <p:nvPr/>
          </p:nvCxnSpPr>
          <p:spPr>
            <a:xfrm>
              <a:off x="2445840" y="5156280"/>
              <a:ext cx="376956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04" name="Textfeld 62"/>
            <p:cNvSpPr/>
            <p:nvPr/>
          </p:nvSpPr>
          <p:spPr>
            <a:xfrm>
              <a:off x="347112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5" name="Gerade Verbindung mit Pfeil 63"/>
            <p:cNvCxnSpPr/>
            <p:nvPr/>
          </p:nvCxnSpPr>
          <p:spPr>
            <a:xfrm flipH="1" flipV="1">
              <a:off x="6205320" y="4494960"/>
              <a:ext cx="864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06" name="Picture 7" descr=""/>
          <p:cNvPicPr/>
          <p:nvPr/>
        </p:nvPicPr>
        <p:blipFill>
          <a:blip r:embed="rId7"/>
          <a:stretch/>
        </p:blipFill>
        <p:spPr>
          <a:xfrm>
            <a:off x="2511360" y="5578560"/>
            <a:ext cx="2667240" cy="8571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uppieren 78"/>
          <p:cNvGrpSpPr/>
          <p:nvPr/>
        </p:nvGrpSpPr>
        <p:grpSpPr>
          <a:xfrm>
            <a:off x="1999440" y="4101840"/>
            <a:ext cx="1374480" cy="1644840"/>
            <a:chOff x="1999440" y="4101840"/>
            <a:chExt cx="1374480" cy="1644840"/>
          </a:xfrm>
        </p:grpSpPr>
        <p:cxnSp>
          <p:nvCxnSpPr>
            <p:cNvPr id="608" name="Gerade Verbindung mit Pfeil 66"/>
            <p:cNvCxnSpPr/>
            <p:nvPr/>
          </p:nvCxnSpPr>
          <p:spPr>
            <a:xfrm flipV="1" rot="16200000">
              <a:off x="1825920" y="4275360"/>
              <a:ext cx="1645200" cy="1297800"/>
            </a:xfrm>
            <a:prstGeom prst="bentConnector3">
              <a:avLst>
                <a:gd name="adj1" fmla="val 60801"/>
              </a:avLst>
            </a:prstGeom>
            <a:ln w="9360">
              <a:solidFill>
                <a:srgbClr val="000000"/>
              </a:solidFill>
              <a:prstDash val="dash"/>
              <a:miter/>
              <a:headEnd len="lg" type="arrow" w="med"/>
            </a:ln>
          </p:spPr>
        </p:cxnSp>
        <p:sp>
          <p:nvSpPr>
            <p:cNvPr id="609" name="Textfeld 67"/>
            <p:cNvSpPr/>
            <p:nvPr/>
          </p:nvSpPr>
          <p:spPr>
            <a:xfrm>
              <a:off x="2312280" y="444492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&lt;&lt;Include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hteck 79"/>
          <p:cNvSpPr/>
          <p:nvPr/>
        </p:nvSpPr>
        <p:spPr>
          <a:xfrm>
            <a:off x="7615080" y="3995640"/>
            <a:ext cx="1071720" cy="500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hteck 80"/>
          <p:cNvSpPr/>
          <p:nvPr/>
        </p:nvSpPr>
        <p:spPr>
          <a:xfrm>
            <a:off x="1871640" y="3995640"/>
            <a:ext cx="1595520" cy="1755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uppieren 81"/>
          <p:cNvGrpSpPr/>
          <p:nvPr/>
        </p:nvGrpSpPr>
        <p:grpSpPr>
          <a:xfrm>
            <a:off x="3578400" y="4494960"/>
            <a:ext cx="4565880" cy="663120"/>
            <a:chOff x="3578400" y="4494960"/>
            <a:chExt cx="4565880" cy="663120"/>
          </a:xfrm>
        </p:grpSpPr>
        <p:cxnSp>
          <p:nvCxnSpPr>
            <p:cNvPr id="613" name="Gerade Verbindung mit Pfeil 82"/>
            <p:cNvCxnSpPr/>
            <p:nvPr/>
          </p:nvCxnSpPr>
          <p:spPr>
            <a:xfrm>
              <a:off x="3578400" y="5156280"/>
              <a:ext cx="456624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614" name="Textfeld 83"/>
            <p:cNvSpPr/>
            <p:nvPr/>
          </p:nvSpPr>
          <p:spPr>
            <a:xfrm>
              <a:off x="4995360" y="47037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Gerade Verbindung mit Pfeil 84"/>
            <p:cNvCxnSpPr/>
            <p:nvPr/>
          </p:nvCxnSpPr>
          <p:spPr>
            <a:xfrm flipH="1" flipV="1">
              <a:off x="8132760" y="4494960"/>
              <a:ext cx="10080" cy="65988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616" name="Textfeld 86"/>
          <p:cNvSpPr/>
          <p:nvPr/>
        </p:nvSpPr>
        <p:spPr>
          <a:xfrm>
            <a:off x="7396920" y="23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feld 87"/>
          <p:cNvSpPr/>
          <p:nvPr/>
        </p:nvSpPr>
        <p:spPr>
          <a:xfrm>
            <a:off x="7846200" y="368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feld 88"/>
          <p:cNvSpPr/>
          <p:nvPr/>
        </p:nvSpPr>
        <p:spPr>
          <a:xfrm>
            <a:off x="6987600" y="2820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feld 89"/>
          <p:cNvSpPr/>
          <p:nvPr/>
        </p:nvSpPr>
        <p:spPr>
          <a:xfrm>
            <a:off x="7465320" y="368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90"/>
          <p:cNvSpPr/>
          <p:nvPr/>
        </p:nvSpPr>
        <p:spPr>
          <a:xfrm>
            <a:off x="6984360" y="3330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91"/>
          <p:cNvSpPr/>
          <p:nvPr/>
        </p:nvSpPr>
        <p:spPr>
          <a:xfrm>
            <a:off x="574920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feld 92"/>
          <p:cNvSpPr/>
          <p:nvPr/>
        </p:nvSpPr>
        <p:spPr>
          <a:xfrm>
            <a:off x="6473160" y="3378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feld 93"/>
          <p:cNvSpPr/>
          <p:nvPr/>
        </p:nvSpPr>
        <p:spPr>
          <a:xfrm>
            <a:off x="5790240" y="372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4"/>
          <p:cNvSpPr/>
          <p:nvPr/>
        </p:nvSpPr>
        <p:spPr>
          <a:xfrm>
            <a:off x="6415920" y="3743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95"/>
          <p:cNvSpPr/>
          <p:nvPr/>
        </p:nvSpPr>
        <p:spPr>
          <a:xfrm>
            <a:off x="5539680" y="28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feld 96"/>
          <p:cNvSpPr/>
          <p:nvPr/>
        </p:nvSpPr>
        <p:spPr>
          <a:xfrm>
            <a:off x="4933080" y="292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feld 97"/>
          <p:cNvSpPr/>
          <p:nvPr/>
        </p:nvSpPr>
        <p:spPr>
          <a:xfrm>
            <a:off x="5447520" y="3848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feld 98"/>
          <p:cNvSpPr/>
          <p:nvPr/>
        </p:nvSpPr>
        <p:spPr>
          <a:xfrm>
            <a:off x="4892760" y="331308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feld 99"/>
          <p:cNvSpPr/>
          <p:nvPr/>
        </p:nvSpPr>
        <p:spPr>
          <a:xfrm>
            <a:off x="527688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feld 100"/>
          <p:cNvSpPr/>
          <p:nvPr/>
        </p:nvSpPr>
        <p:spPr>
          <a:xfrm>
            <a:off x="4645800" y="4178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 Meta Model (simplified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2" name="Inhaltsplatzhalter 5" descr="Metamodel_ClassDiagram.pdf"/>
          <p:cNvPicPr/>
          <p:nvPr/>
        </p:nvPicPr>
        <p:blipFill>
          <a:blip r:embed="rId1"/>
          <a:srcRect l="0" t="-13292" r="0" b="-13292"/>
          <a:stretch/>
        </p:blipFill>
        <p:spPr>
          <a:xfrm>
            <a:off x="457200" y="785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"/>
          <p:cNvPicPr/>
          <p:nvPr/>
        </p:nvPicPr>
        <p:blipFill>
          <a:blip r:embed="rId2"/>
          <a:stretch/>
        </p:blipFill>
        <p:spPr>
          <a:xfrm>
            <a:off x="6524640" y="4149720"/>
            <a:ext cx="2162160" cy="1162080"/>
          </a:xfrm>
          <a:prstGeom prst="rect">
            <a:avLst/>
          </a:prstGeom>
          <a:ln w="0">
            <a:noFill/>
          </a:ln>
        </p:spPr>
      </p:pic>
      <p:sp>
        <p:nvSpPr>
          <p:cNvPr id="634" name="Rechteck 7"/>
          <p:cNvSpPr/>
          <p:nvPr/>
        </p:nvSpPr>
        <p:spPr>
          <a:xfrm>
            <a:off x="6477120" y="4102200"/>
            <a:ext cx="2260440" cy="1231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hteck 8"/>
          <p:cNvSpPr/>
          <p:nvPr/>
        </p:nvSpPr>
        <p:spPr>
          <a:xfrm>
            <a:off x="1015920" y="2463840"/>
            <a:ext cx="1092240" cy="79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uppieren 20"/>
          <p:cNvGrpSpPr/>
          <p:nvPr/>
        </p:nvGrpSpPr>
        <p:grpSpPr>
          <a:xfrm>
            <a:off x="2107800" y="3142440"/>
            <a:ext cx="4369320" cy="1575360"/>
            <a:chOff x="2107800" y="3142440"/>
            <a:chExt cx="4369320" cy="1575360"/>
          </a:xfrm>
        </p:grpSpPr>
        <p:sp>
          <p:nvSpPr>
            <p:cNvPr id="637" name="Textfeld 11"/>
            <p:cNvSpPr/>
            <p:nvPr/>
          </p:nvSpPr>
          <p:spPr>
            <a:xfrm>
              <a:off x="3214440" y="4334760"/>
              <a:ext cx="199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8" name="Gewinkelte Verbindung 15"/>
            <p:cNvCxnSpPr>
              <a:stCxn id="634" idx="1"/>
            </p:cNvCxnSpPr>
            <p:nvPr/>
          </p:nvCxnSpPr>
          <p:spPr>
            <a:xfrm rot="10800000">
              <a:off x="2107440" y="3142440"/>
              <a:ext cx="4369680" cy="1575720"/>
            </a:xfrm>
            <a:prstGeom prst="bentConnector3">
              <a:avLst>
                <a:gd name="adj1" fmla="val 86331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39" name="Picture 5" descr=""/>
          <p:cNvPicPr/>
          <p:nvPr/>
        </p:nvPicPr>
        <p:blipFill>
          <a:blip r:embed="rId3"/>
          <a:stretch/>
        </p:blipFill>
        <p:spPr>
          <a:xfrm>
            <a:off x="5985000" y="4114800"/>
            <a:ext cx="2733480" cy="1219320"/>
          </a:xfrm>
          <a:prstGeom prst="rect">
            <a:avLst/>
          </a:prstGeom>
          <a:ln w="0">
            <a:noFill/>
          </a:ln>
        </p:spPr>
      </p:pic>
      <p:sp>
        <p:nvSpPr>
          <p:cNvPr id="640" name="Rechteck 22"/>
          <p:cNvSpPr/>
          <p:nvPr/>
        </p:nvSpPr>
        <p:spPr>
          <a:xfrm>
            <a:off x="6024600" y="4686480"/>
            <a:ext cx="256068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hteck 23"/>
          <p:cNvSpPr/>
          <p:nvPr/>
        </p:nvSpPr>
        <p:spPr>
          <a:xfrm>
            <a:off x="3162240" y="2476440"/>
            <a:ext cx="138420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uppieren 24"/>
          <p:cNvGrpSpPr/>
          <p:nvPr/>
        </p:nvGrpSpPr>
        <p:grpSpPr>
          <a:xfrm>
            <a:off x="3784320" y="3263400"/>
            <a:ext cx="2224440" cy="1664280"/>
            <a:chOff x="3784320" y="3263400"/>
            <a:chExt cx="2224440" cy="1664280"/>
          </a:xfrm>
        </p:grpSpPr>
        <p:sp>
          <p:nvSpPr>
            <p:cNvPr id="643" name="Textfeld 25"/>
            <p:cNvSpPr/>
            <p:nvPr/>
          </p:nvSpPr>
          <p:spPr>
            <a:xfrm>
              <a:off x="3924360" y="4522680"/>
              <a:ext cx="17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4" name="Gewinkelte Verbindung 26"/>
            <p:cNvCxnSpPr/>
            <p:nvPr/>
          </p:nvCxnSpPr>
          <p:spPr>
            <a:xfrm rot="10800000">
              <a:off x="3783960" y="3263040"/>
              <a:ext cx="2224800" cy="1664640"/>
            </a:xfrm>
            <a:prstGeom prst="bentConnector3">
              <a:avLst>
                <a:gd name="adj1" fmla="val 100000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45" name="Picture 6" descr=""/>
          <p:cNvPicPr/>
          <p:nvPr/>
        </p:nvPicPr>
        <p:blipFill>
          <a:blip r:embed="rId4"/>
          <a:stretch/>
        </p:blipFill>
        <p:spPr>
          <a:xfrm>
            <a:off x="5996160" y="4140360"/>
            <a:ext cx="2714400" cy="1714320"/>
          </a:xfrm>
          <a:prstGeom prst="rect">
            <a:avLst/>
          </a:prstGeom>
          <a:ln w="0">
            <a:noFill/>
          </a:ln>
        </p:spPr>
      </p:pic>
      <p:sp>
        <p:nvSpPr>
          <p:cNvPr id="646" name="Rechteck 29"/>
          <p:cNvSpPr/>
          <p:nvPr/>
        </p:nvSpPr>
        <p:spPr>
          <a:xfrm>
            <a:off x="5956200" y="5156280"/>
            <a:ext cx="11415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hteck 30"/>
          <p:cNvSpPr/>
          <p:nvPr/>
        </p:nvSpPr>
        <p:spPr>
          <a:xfrm>
            <a:off x="841320" y="4114800"/>
            <a:ext cx="1457280" cy="77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uppieren 31"/>
          <p:cNvGrpSpPr/>
          <p:nvPr/>
        </p:nvGrpSpPr>
        <p:grpSpPr>
          <a:xfrm>
            <a:off x="1534680" y="4926960"/>
            <a:ext cx="4407120" cy="508320"/>
            <a:chOff x="1534680" y="4926960"/>
            <a:chExt cx="4407120" cy="508320"/>
          </a:xfrm>
        </p:grpSpPr>
        <p:sp>
          <p:nvSpPr>
            <p:cNvPr id="649" name="Textfeld 32"/>
            <p:cNvSpPr/>
            <p:nvPr/>
          </p:nvSpPr>
          <p:spPr>
            <a:xfrm>
              <a:off x="3214800" y="5052240"/>
              <a:ext cx="20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0" name="Gewinkelte Verbindung 33"/>
            <p:cNvCxnSpPr/>
            <p:nvPr/>
          </p:nvCxnSpPr>
          <p:spPr>
            <a:xfrm rot="10800000">
              <a:off x="1536120" y="4926960"/>
              <a:ext cx="4406040" cy="508680"/>
            </a:xfrm>
            <a:prstGeom prst="bentConnector3">
              <a:avLst>
                <a:gd name="adj1" fmla="val 100032"/>
              </a:avLst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</p:grpSp>
      <p:pic>
        <p:nvPicPr>
          <p:cNvPr id="651" name="Picture 8" descr=""/>
          <p:cNvPicPr/>
          <p:nvPr/>
        </p:nvPicPr>
        <p:blipFill>
          <a:blip r:embed="rId5"/>
          <a:stretch/>
        </p:blipFill>
        <p:spPr>
          <a:xfrm>
            <a:off x="2638440" y="4135320"/>
            <a:ext cx="6076800" cy="1648080"/>
          </a:xfrm>
          <a:prstGeom prst="rect">
            <a:avLst/>
          </a:prstGeom>
          <a:ln w="0">
            <a:noFill/>
          </a:ln>
        </p:spPr>
      </p:pic>
      <p:sp>
        <p:nvSpPr>
          <p:cNvPr id="652" name="Rechteck 38"/>
          <p:cNvSpPr/>
          <p:nvPr/>
        </p:nvSpPr>
        <p:spPr>
          <a:xfrm>
            <a:off x="5433840" y="2476440"/>
            <a:ext cx="1703520" cy="800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hteck 39"/>
          <p:cNvSpPr/>
          <p:nvPr/>
        </p:nvSpPr>
        <p:spPr>
          <a:xfrm>
            <a:off x="4622760" y="4788000"/>
            <a:ext cx="1519200" cy="876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uppieren 43"/>
          <p:cNvGrpSpPr/>
          <p:nvPr/>
        </p:nvGrpSpPr>
        <p:grpSpPr>
          <a:xfrm>
            <a:off x="3930480" y="3277800"/>
            <a:ext cx="1756440" cy="1511640"/>
            <a:chOff x="3930480" y="3277800"/>
            <a:chExt cx="1756440" cy="1511640"/>
          </a:xfrm>
        </p:grpSpPr>
        <p:cxnSp>
          <p:nvCxnSpPr>
            <p:cNvPr id="655" name="Gerade Verbindung mit Pfeil 41"/>
            <p:cNvCxnSpPr/>
            <p:nvPr/>
          </p:nvCxnSpPr>
          <p:spPr>
            <a:xfrm flipV="1">
              <a:off x="5685120" y="3277800"/>
              <a:ext cx="2160" cy="151200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6" name="Textfeld 42"/>
            <p:cNvSpPr/>
            <p:nvPr/>
          </p:nvSpPr>
          <p:spPr>
            <a:xfrm>
              <a:off x="3930480" y="373356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&lt;&lt;instanceOf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feld 44"/>
          <p:cNvSpPr/>
          <p:nvPr/>
        </p:nvSpPr>
        <p:spPr>
          <a:xfrm>
            <a:off x="516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feld 45"/>
          <p:cNvSpPr/>
          <p:nvPr/>
        </p:nvSpPr>
        <p:spPr>
          <a:xfrm>
            <a:off x="596160" y="1657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6"/>
          <p:cNvSpPr/>
          <p:nvPr/>
        </p:nvSpPr>
        <p:spPr>
          <a:xfrm>
            <a:off x="202896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feld 47"/>
          <p:cNvSpPr/>
          <p:nvPr/>
        </p:nvSpPr>
        <p:spPr>
          <a:xfrm>
            <a:off x="2917080" y="254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48"/>
          <p:cNvSpPr/>
          <p:nvPr/>
        </p:nvSpPr>
        <p:spPr>
          <a:xfrm>
            <a:off x="959040" y="32004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feld 49"/>
          <p:cNvSpPr/>
          <p:nvPr/>
        </p:nvSpPr>
        <p:spPr>
          <a:xfrm>
            <a:off x="117396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feld 50"/>
          <p:cNvSpPr/>
          <p:nvPr/>
        </p:nvSpPr>
        <p:spPr>
          <a:xfrm>
            <a:off x="5035680" y="2486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feld 51"/>
          <p:cNvSpPr/>
          <p:nvPr/>
        </p:nvSpPr>
        <p:spPr>
          <a:xfrm>
            <a:off x="4394160" y="248616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..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otations for the UML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ML meta model defines a language for specifying UML mode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used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ML models provides graphical constructs representing instances of meta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icky figure represents an A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tation is a function from meta model elements to mode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ml-no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ctor) =       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4500720" y="5057640"/>
            <a:ext cx="35712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 of stereotypes, tagged values and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 UML models for particular domains or platfor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applied to elements of the UML meta model (M2)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developed by manufacturers or standardization organizations (CORBA, .N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pplying 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applying a UML profile, w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stereotypes to meta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a deeper undestanding for the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rrow the amount of valid models (see the following slid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Profil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Ellipse 3"/>
          <p:cNvSpPr/>
          <p:nvPr/>
        </p:nvSpPr>
        <p:spPr>
          <a:xfrm>
            <a:off x="714240" y="1417680"/>
            <a:ext cx="7715520" cy="4869000"/>
          </a:xfrm>
          <a:prstGeom prst="ellipse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3368160" y="14670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models (M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Ellipse 5"/>
          <p:cNvSpPr/>
          <p:nvPr/>
        </p:nvSpPr>
        <p:spPr>
          <a:xfrm>
            <a:off x="1714680" y="1928880"/>
            <a:ext cx="5572080" cy="310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6"/>
          <p:cNvSpPr/>
          <p:nvPr/>
        </p:nvSpPr>
        <p:spPr>
          <a:xfrm>
            <a:off x="3581280" y="2081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Ellipse 7"/>
          <p:cNvGrpSpPr/>
          <p:nvPr/>
        </p:nvGrpSpPr>
        <p:grpSpPr>
          <a:xfrm>
            <a:off x="4468680" y="2382840"/>
            <a:ext cx="2565360" cy="1712880"/>
            <a:chOff x="4468680" y="2382840"/>
            <a:chExt cx="2565360" cy="1712880"/>
          </a:xfrm>
        </p:grpSpPr>
        <p:pic>
          <p:nvPicPr>
            <p:cNvPr id="678" name="Ellipse 7" descr=""/>
            <p:cNvPicPr/>
            <p:nvPr/>
          </p:nvPicPr>
          <p:blipFill>
            <a:blip r:embed="rId1"/>
            <a:stretch/>
          </p:blipFill>
          <p:spPr>
            <a:xfrm>
              <a:off x="4468680" y="2382840"/>
              <a:ext cx="25653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967280" y="2741760"/>
              <a:ext cx="156672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BA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Ellipse 8"/>
          <p:cNvGrpSpPr/>
          <p:nvPr/>
        </p:nvGrpSpPr>
        <p:grpSpPr>
          <a:xfrm>
            <a:off x="3371760" y="4748040"/>
            <a:ext cx="2193840" cy="1536840"/>
            <a:chOff x="3371760" y="4748040"/>
            <a:chExt cx="2193840" cy="1536840"/>
          </a:xfrm>
        </p:grpSpPr>
        <p:pic>
          <p:nvPicPr>
            <p:cNvPr id="681" name="Ellipse 8" descr=""/>
            <p:cNvPicPr/>
            <p:nvPr/>
          </p:nvPicPr>
          <p:blipFill>
            <a:blip r:embed="rId2"/>
            <a:stretch/>
          </p:blipFill>
          <p:spPr>
            <a:xfrm>
              <a:off x="3371760" y="4748040"/>
              <a:ext cx="21938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3735360" y="4994280"/>
              <a:ext cx="1471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Textfeld 9"/>
          <p:cNvSpPr/>
          <p:nvPr/>
        </p:nvSpPr>
        <p:spPr>
          <a:xfrm>
            <a:off x="3462480" y="526428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M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Ellipse 11"/>
          <p:cNvGrpSpPr/>
          <p:nvPr/>
        </p:nvGrpSpPr>
        <p:grpSpPr>
          <a:xfrm>
            <a:off x="2749680" y="2627280"/>
            <a:ext cx="2571480" cy="1712880"/>
            <a:chOff x="2749680" y="2627280"/>
            <a:chExt cx="2571480" cy="1712880"/>
          </a:xfrm>
        </p:grpSpPr>
        <p:pic>
          <p:nvPicPr>
            <p:cNvPr id="685" name="Ellipse 11" descr=""/>
            <p:cNvPicPr/>
            <p:nvPr/>
          </p:nvPicPr>
          <p:blipFill>
            <a:blip r:embed="rId3"/>
            <a:stretch/>
          </p:blipFill>
          <p:spPr>
            <a:xfrm>
              <a:off x="2749680" y="2627280"/>
              <a:ext cx="25714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3252960" y="2984400"/>
              <a:ext cx="1566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.NET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pro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dditional Reading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MOF Specif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3d5500"/>
                </a:solidFill>
                <a:uFillTx/>
                <a:latin typeface="Verdana"/>
                <a:ea typeface="ＭＳ Ｐゴシック"/>
                <a:hlinkClick r:id="rId1"/>
              </a:rPr>
              <a:t>http://www.omg.org/technology/documents/modeling_spec_catalog.htm#M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SS Fe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eed://www.omg.org/mof/rss/index.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erson is an instance of the class 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us the class Person is a model for a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we generalize this relationship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del for the class Pers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67652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onical model-instance-relationsh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aPerson and the class Person are on different levels of abst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Person specifies features that characterize the structure and behavior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odel for the class Person must characterize the structure and behavior of 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Grafik 14" descr="instances1.emf"/>
          <p:cNvPicPr/>
          <p:nvPr/>
        </p:nvPicPr>
        <p:blipFill>
          <a:blip r:embed="rId1"/>
          <a:stretch/>
        </p:blipFill>
        <p:spPr>
          <a:xfrm>
            <a:off x="1430280" y="1981080"/>
            <a:ext cx="5711760" cy="8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Grafik 5" descr="instances2.emf"/>
          <p:cNvPicPr/>
          <p:nvPr/>
        </p:nvPicPr>
        <p:blipFill>
          <a:blip r:embed="rId1"/>
          <a:stretch/>
        </p:blipFill>
        <p:spPr>
          <a:xfrm>
            <a:off x="5486400" y="2274840"/>
            <a:ext cx="6567480" cy="8715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ionship between model and meta-mod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model for the class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ce Person is a model (for the instance aPerson), Class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ta mode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del for mode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8" name="Grafik 14" descr="instances1.emf"/>
          <p:cNvPicPr/>
          <p:nvPr/>
        </p:nvPicPr>
        <p:blipFill>
          <a:blip r:embed="rId2"/>
          <a:stretch/>
        </p:blipFill>
        <p:spPr>
          <a:xfrm>
            <a:off x="1430280" y="1752480"/>
            <a:ext cx="5711760" cy="860400"/>
          </a:xfrm>
          <a:prstGeom prst="rect">
            <a:avLst/>
          </a:prstGeom>
          <a:ln w="0">
            <a:noFill/>
          </a:ln>
        </p:spPr>
      </p:pic>
      <p:sp>
        <p:nvSpPr>
          <p:cNvPr id="529" name="Rechteck 7"/>
          <p:cNvSpPr/>
          <p:nvPr/>
        </p:nvSpPr>
        <p:spPr>
          <a:xfrm>
            <a:off x="7142040" y="2214720"/>
            <a:ext cx="2017800" cy="15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5185E-006 L -0.45694 1.85185E-006 E">
                                      <p:cBhvr>
                                        <p:cTn id="45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4625 -4.07407E-006 E">
                                      <p:cBhvr>
                                        <p:cTn id="4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Model Instances to 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first this might be confusing, 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about the different layers of abstr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nces are concr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s are an abstract description of the insta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 models are an abstract description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do we need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ta models can be used for instance to formalize UML not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guage, meta models are used to describe the gramm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UML meta model describes all models one can create using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meta model allows to talk about seman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ta Model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K, so meta models are cool, but how do I create a meta mode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approach this problem, we will look at the history of UML’s meta model fir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History of UML’s Meta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1.0 had a lot of semantic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MG tried to deal with these prob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 by formalizing the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dea: Use meta modeling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OMG realized that all that was needed to describe meta models was to use a subset of UML class diagram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sight: To describe any meta model, the UML class diagram notation itself can be us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1:32:06Z</dcterms:created>
  <dc:creator>Florian Schneider</dc:creator>
  <dc:description/>
  <dc:language>en-US</dc:language>
  <cp:lastModifiedBy>Bernd Bruegge</cp:lastModifiedBy>
  <cp:lastPrinted>2008-10-23T21:03:13Z</cp:lastPrinted>
  <dcterms:modified xsi:type="dcterms:W3CDTF">2009-08-04T06:20:35Z</dcterms:modified>
  <cp:revision>200</cp:revision>
  <dc:subject/>
  <dc:title>Folie 1</dc:title>
</cp:coreProperties>
</file>