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7665-DCB5-4A03-9551-DA402858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for icebreaker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commons.wikimedia.org/wiki/File:Icebreaker_in_ross_se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urce for chocolate airplane: http://www.flickr.com/photos/stephenliveshere/51761002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E1EB-16D6-4C57-ABD4-667F8D93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00AD-0A30-4220-B884-70FE9A15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18680" y="221760"/>
            <a:ext cx="8153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533520" y="6400800"/>
            <a:ext cx="83818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Bernd Bruegge &amp; Allen H. Dutoit 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Palatino"/>
              </a:rPr>
              <a:t>   Object-Oriented Software Engineering: Using UML, Patterns, and Java                                        </a:t>
            </a:r>
            <a:fld id="{353F6E5B-FA33-4DEE-BDD0-382D9BA6D34D}" type="slidenum">
              <a:rPr b="0" lang="en-US" sz="9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UML, Patterns,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 rot="16200000">
            <a:off x="-2656440" y="319788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ject-Orient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ild 8" descr=""/>
          <p:cNvPicPr/>
          <p:nvPr/>
        </p:nvPicPr>
        <p:blipFill>
          <a:blip r:embed="rId1"/>
          <a:stretch/>
        </p:blipFill>
        <p:spPr>
          <a:xfrm>
            <a:off x="1482840" y="914400"/>
            <a:ext cx="7432560" cy="4683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990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ocoPlane Projec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43400" y="47239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cebreaker 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4"/>
          <p:cNvSpPr/>
          <p:nvPr/>
        </p:nvSpPr>
        <p:spPr>
          <a:xfrm rot="16200000">
            <a:off x="-2289600" y="2955240"/>
            <a:ext cx="6416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ing UML, Patterns, and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 rot="16200000">
            <a:off x="-2656440" y="319788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bject-Orient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Bild 9" descr=""/>
          <p:cNvPicPr/>
          <p:nvPr/>
        </p:nvPicPr>
        <p:blipFill>
          <a:blip r:embed="rId2"/>
          <a:stretch/>
        </p:blipFill>
        <p:spPr>
          <a:xfrm>
            <a:off x="7047000" y="990720"/>
            <a:ext cx="171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blem Statemen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: Construct an Airplane that carries a choco-kiss as far as possible without harming i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89064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hocoplane Requirement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al Requirement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irplane has to fl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irplane carries a  Cocoa-Ki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function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eoff is the porch area outside the seminar roo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coa-Kiss is not damaged at take-o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coplane Project Organization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teams with 6 participants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team builds its own solu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our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thing you can find at TUM or the Lidl-Supermarkt (shortly before  Garching) can be used to build the pl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chedul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Duration: 15:00 - 16:4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ment time: 15:00-15: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ion testing: 15:45- 16: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le Ston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ient Acceptance Test: 16:15-16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eams perform their flights simultaneous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ation of the winner: 16: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cceptance Criteria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ne must prominently display the name of the subsystem tea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ne must actually demonstrating flying behavior (throwing is not allow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coa-Kiss must be undamaged after la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lient inspects the Cocoa-Kiss after the plane has come to complete standstill and determines its healthin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iz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eam whose plane actually flies, and covers the longest distance wins a pr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tance is measured from the wall of the building to the first contact on the grou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s used by the client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of Cocoa-Ki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amaged (0 points), undamaged (30 poi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ngth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0 m: 0 points, 1-5 m: 30 points, 5-15 m: 40 points, 16-20 m: 50 points, 21 or more m: 60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3d55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uty of f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rowing: 0 points, Flying: 30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The Crew of Cocoa-Airlines wishes you a good flight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397044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Have fun!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8680" y="221760"/>
            <a:ext cx="815364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Development Laboratories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072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1:   Seminar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2:  Glas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3:  Aqua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4: Terra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am 5: Aura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320" indent="-211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6:34:36Z</dcterms:created>
  <dc:creator>Bernd Bruegge</dc:creator>
  <dc:description/>
  <dc:language>en-US</dc:language>
  <cp:lastModifiedBy>Bernd Bruegge</cp:lastModifiedBy>
  <dcterms:modified xsi:type="dcterms:W3CDTF">2010-04-10T18:14:31Z</dcterms:modified>
  <cp:revision>6</cp:revision>
  <dc:subject/>
  <dc:title>PowerPoint Presentation</dc:title>
</cp:coreProperties>
</file>