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4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47712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07080" y="656424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9748-0A32-4016-ACCD-6DA6F497F45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99560" y="3429000"/>
            <a:ext cx="743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orksheet 2: Contribution Mar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60" y="533520"/>
            <a:ext cx="87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arketing Metrics Interactive Work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owerPoint® Support Sl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ontribution Margin can be expressed as a % or $ amou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alibri"/>
              </a:rPr>
              <a:t>Contribution Margin (%) 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= Contribution per Unit ($) / Selling Price per Unit ($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alibri"/>
              </a:rPr>
              <a:t>Contribution per Unit 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=Unit price - unit variable c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alibri"/>
              </a:rPr>
              <a:t>Contribution Margin ($) 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= Revenue - CO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ontribution Margin ($) is the difference between revenue and the cost of goods sold (or variable co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aj\AppData\Local\Microsoft\Windows\Temporary Internet Files\Content.IE5\6V61EGJL\MP900315619[1].jpg"/>
          <p:cNvPicPr/>
          <p:nvPr/>
        </p:nvPicPr>
        <p:blipFill>
          <a:blip r:embed="rId2"/>
          <a:stretch/>
        </p:blipFill>
        <p:spPr>
          <a:xfrm>
            <a:off x="5867280" y="4648320"/>
            <a:ext cx="2114640" cy="1579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aj\AppData\Local\Microsoft\Windows\Temporary Internet Files\Content.IE5\6V61EGJL\MP900315542[1].jpg"/>
          <p:cNvPicPr/>
          <p:nvPr/>
        </p:nvPicPr>
        <p:blipFill>
          <a:blip r:embed="rId3"/>
          <a:stretch/>
        </p:blipFill>
        <p:spPr>
          <a:xfrm>
            <a:off x="1066680" y="4572000"/>
            <a:ext cx="22464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Calibri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stle is selling premium flavored bottled water. They sell a bottle for $2.00, and it costs the $0.50 to package, manufacture and ship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Calibri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sold 50,000 bottles last qua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ir Contribution Margin in Dollars and %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total Contribution last Quarter? Las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" descr=""/>
          <p:cNvPicPr/>
          <p:nvPr/>
        </p:nvPicPr>
        <p:blipFill>
          <a:blip r:embed="rId2"/>
          <a:srcRect l="0" t="8079" r="0" b="44260"/>
          <a:stretch/>
        </p:blipFill>
        <p:spPr>
          <a:xfrm>
            <a:off x="4572000" y="4292640"/>
            <a:ext cx="383868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990720" y="1523880"/>
          <a:ext cx="7056360" cy="3327480"/>
        </p:xfrm>
        <a:graphic>
          <a:graphicData uri="http://schemas.openxmlformats.org/drawingml/2006/table">
            <a:tbl>
              <a:tblPr/>
              <a:tblGrid>
                <a:gridCol w="3632400"/>
                <a:gridCol w="3423960"/>
              </a:tblGrid>
              <a:tr h="311400">
                <a:tc>
                  <a:txBody>
                    <a:bodyPr lIns="0" rIns="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hat is the price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$                                                       2.00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311040">
                <a:tc>
                  <a:txBody>
                    <a:bodyPr lIns="0" rIns="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hat are the variable costs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$                                                       0.50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311040">
                <a:tc>
                  <a:txBody>
                    <a:bodyPr lIns="0" rIns="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hat is the total number of units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                                 </a:t>
                      </a: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0,000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520920">
                <a:tc>
                  <a:txBody>
                    <a:bodyPr lIns="0" rIns="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ntribution Margin per unit: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$                                                          1.50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311040">
                <a:tc>
                  <a:txBody>
                    <a:bodyPr lIns="0" rIns="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ntribution Margin 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520560">
                <a:tc>
                  <a:txBody>
                    <a:bodyPr lIns="0" rIns="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tal Contribution for the quar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$                                              75,000.00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520920">
                <a:tc>
                  <a:txBody>
                    <a:bodyPr lIns="0" rIns="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tal Contribution for the 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$                                              300,000.00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520560">
                <a:tc>
                  <a:txBody>
                    <a:bodyPr lIns="0" rIns="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tal Reven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$                                               100,000.00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</a:tbl>
          </a:graphicData>
        </a:graphic>
      </p:graphicFrame>
      <p:pic>
        <p:nvPicPr>
          <p:cNvPr id="5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 retail store sells only premium Pet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e fixed costs for the year total $100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is includes rent, salaries, utilities and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e average bag of Pet Food retails for $20 and each bag costs $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e store sells 10,000 bags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What is the $ Contribution per b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What is the Total Contrib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What is the Profit per Yea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Title 2" descr=""/>
          <p:cNvPicPr/>
          <p:nvPr/>
        </p:nvPicPr>
        <p:blipFill>
          <a:blip r:embed="rId1"/>
          <a:stretch/>
        </p:blipFill>
        <p:spPr>
          <a:xfrm>
            <a:off x="208080" y="30240"/>
            <a:ext cx="8497800" cy="1377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dogs with food.jpg"/>
          <p:cNvPicPr/>
          <p:nvPr/>
        </p:nvPicPr>
        <p:blipFill>
          <a:blip r:embed="rId2"/>
          <a:stretch/>
        </p:blipFill>
        <p:spPr>
          <a:xfrm>
            <a:off x="5791320" y="3429000"/>
            <a:ext cx="28843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ontribution Margin=Price-COGS (Cost of Goods Sol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ontribution Margin=$20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ontribution Margin=$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otal Contribution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0960" indent="-210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# of units sold*Contribution margin per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otal Contribution =10,000*$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otal Contribution =$12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Fixed costs are $10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rofit= Total Contribution –Fixed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rofit= $120,000-$1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rofit=$2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9T13:55:43Z</dcterms:created>
  <dc:creator>User Name</dc:creator>
  <dc:description/>
  <dc:language>en-US</dc:language>
  <cp:lastModifiedBy>User Name</cp:lastModifiedBy>
  <dcterms:modified xsi:type="dcterms:W3CDTF">2012-08-15T19:24:07Z</dcterms:modified>
  <cp:revision>15</cp:revision>
  <dc:subject/>
  <dc:title>Slide 1</dc:title>
</cp:coreProperties>
</file>