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3.wmf" ContentType="image/x-wmf"/>
  <Override PartName="/ppt/media/image26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4.wmf" ContentType="image/x-wmf"/>
  <Override PartName="/ppt/media/image2.wmf" ContentType="image/x-wmf"/>
  <Override PartName="/ppt/media/image25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4D8C4-1372-4148-9647-928379D18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A11BB-76EC-490F-8C0B-752A868E4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C0E1D-576C-4C0B-950F-4E4C88448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59A8B-F9F2-440F-AC74-FCF7B6229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F4E99-6DE2-449E-B537-28E1822A0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1EFBF-1502-481F-BACF-AF5535CC3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3F669-E4A7-4DC6-950D-40BED0327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4B952-0C44-419D-9373-454B88A98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027EE-BDE9-486A-84CE-ED4736982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02881-9B89-4072-9EBE-06345C605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4E566-E450-490C-AC36-E3AF7D737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D93CB-4B1A-40DA-A5EC-AD872F73F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ED141-EFBA-47AA-95B4-89937401C9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63360"/>
            <a:ext cx="8229600" cy="157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es Oakley, Inc. account for a credit transaction to its distributors the same way that it does for a retail custom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2265480"/>
            <a:ext cx="4114800" cy="116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57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direct write-off method for uncollectible accounts is used mostly by companies with a large amount of receivab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TPChart"/>
          <p:cNvGraphicFramePr/>
          <p:nvPr/>
        </p:nvGraphicFramePr>
        <p:xfrm>
          <a:off x="4508640" y="2008080"/>
          <a:ext cx="4483080" cy="478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2008080"/>
                    <a:ext cx="4483080" cy="47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569680"/>
            <a:ext cx="4114800" cy="116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19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 note is said to be dishonored when it is not paid in full at the maturity dat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65480"/>
            <a:ext cx="4114800" cy="116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receivables that are expected to be realized in cash within one year are reported in the current assets section of the balance she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TPChart"/>
          <p:cNvGraphicFramePr/>
          <p:nvPr/>
        </p:nvGraphicFramePr>
        <p:xfrm>
          <a:off x="4508640" y="1905120"/>
          <a:ext cx="4483080" cy="4889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905120"/>
                    <a:ext cx="4483080" cy="488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494080"/>
            <a:ext cx="4114800" cy="116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eceivable for which a formal, written instrument of credit is issued is a(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114800" cy="28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ounts receiv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es receiv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est receivab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de receiv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09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a factoring arrangement, the risk of uncollectible accounts is borne 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114800" cy="507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mpany buying the accounts receivable (facto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mpany selling the accounts receiv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th the company buying and the company selling the accounts receiv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ither the company buying nor the company selling the accounts receiv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2204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two methods commonly used to estimate uncollectible accounts receivable at the end of a period 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4114800" cy="361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cent of total assets and percent of s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cent of sales and analysis of receiv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cent of current assets and percent of total reven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ysis of net income and percent of s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llowance for Doubtful Accounts is classified as a(n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2027160"/>
            <a:ext cx="4114800" cy="33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nse accou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et accou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a asset accou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a revenue accou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71280"/>
            <a:ext cx="8229600" cy="155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balance in Allowance for Doubtful Accounts is not considered when computing bad debts using 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95120"/>
            <a:ext cx="4114800" cy="33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 write-off 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rual 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alysis of receivables 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centage of sales 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137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ing the allowance method, the journal entry to record the company’s estimate of uncollectible accounts includes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TPChart"/>
          <p:cNvGraphicFramePr/>
          <p:nvPr/>
        </p:nvGraphicFramePr>
        <p:xfrm>
          <a:off x="4508640" y="1751040"/>
          <a:ext cx="4483080" cy="504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751040"/>
                    <a:ext cx="4483080" cy="504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2025720"/>
            <a:ext cx="4114800" cy="324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dit to Allowance for Doubtful Accou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bit to Allowance for Doubtful Accou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bit to Accounts Receiv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dit to Bad Debts Expe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analysis of receivables metho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114800" cy="548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s estimates based on percent of sales to account for bad deb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s not use an allowance accou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s estimates based on analysis of receivables to account for bad deb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used by small companies and companies with relatively few receiv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07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most companies such as Oakley, Inc. provide services and sales on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65480"/>
            <a:ext cx="4114800" cy="116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50560"/>
            <a:ext cx="8229600" cy="119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interest on a $10,000, 10%,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x-month note receivable 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010960"/>
            <a:ext cx="4114800" cy="23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$10,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$5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$1,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$5,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63360"/>
            <a:ext cx="8229600" cy="155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mount that is due on the due date of a notes receivable and represents the sum of the face value and the interest is called 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114800" cy="28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urity val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ce val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eemed val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t realizable val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a customer dishonors a note receivable, the amount that is transferred back to an accounts receivable is 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6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844640"/>
            <a:ext cx="4114800" cy="324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e value of the original no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imated amount to be collected on the no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e value of the note plus any interest due on the no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est due on the no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2"/>
          <p:cNvSpPr/>
          <p:nvPr/>
        </p:nvSpPr>
        <p:spPr>
          <a:xfrm>
            <a:off x="0" y="372960"/>
            <a:ext cx="3048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457200" y="741240"/>
            <a:ext cx="8305920" cy="2839680"/>
          </a:xfrm>
          <a:prstGeom prst="rect">
            <a:avLst/>
          </a:prstGeom>
          <a:solidFill>
            <a:srgbClr val="e8dec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572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the end of the current year, Accounts Receivable has a balance of $800,000; Allowance for Doubtful Accounts has a credit balance of $7,500; and net sales for the year total $3,500,000. Bad debt expense is estimated at ½ of 1% of net sa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2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rmine (a) the amount of the adjusting entry for uncollectible accou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0" y="3200400"/>
            <a:ext cx="83818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457200" y="3962520"/>
          <a:ext cx="8229600" cy="213336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Verdan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40,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Verdana"/>
                        <a:buAutoNum type="arabicPeriod" startAt="2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4,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Verdana"/>
                        <a:buAutoNum type="arabicPeriod" startAt="3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75,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Verdana"/>
                        <a:buAutoNum type="arabicPeriod" startAt="4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7,5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</a:tr>
            </a:tbl>
          </a:graphicData>
        </a:graphic>
      </p:graphicFrame>
      <p:grpSp>
        <p:nvGrpSpPr>
          <p:cNvPr id="133" name="Group 17"/>
          <p:cNvGrpSpPr/>
          <p:nvPr/>
        </p:nvGrpSpPr>
        <p:grpSpPr>
          <a:xfrm>
            <a:off x="0" y="0"/>
            <a:ext cx="4419360" cy="459720"/>
            <a:chOff x="0" y="0"/>
            <a:chExt cx="4419360" cy="459720"/>
          </a:xfrm>
        </p:grpSpPr>
        <p:sp>
          <p:nvSpPr>
            <p:cNvPr id="134" name="Rectangle 18"/>
            <p:cNvSpPr/>
            <p:nvPr/>
          </p:nvSpPr>
          <p:spPr>
            <a:xfrm>
              <a:off x="0" y="0"/>
              <a:ext cx="4278960" cy="457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Oval 19"/>
            <p:cNvSpPr/>
            <p:nvPr/>
          </p:nvSpPr>
          <p:spPr>
            <a:xfrm>
              <a:off x="4164480" y="3960"/>
              <a:ext cx="254880" cy="453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Text Box 20"/>
            <p:cNvSpPr/>
            <p:nvPr/>
          </p:nvSpPr>
          <p:spPr>
            <a:xfrm>
              <a:off x="549720" y="0"/>
              <a:ext cx="3588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Example Exercise 8-3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914400"/>
          </a:xfrm>
          <a:prstGeom prst="rect">
            <a:avLst/>
          </a:prstGeom>
          <a:solidFill>
            <a:srgbClr val="e8dec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oose Answ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0" name="Group 5"/>
          <p:cNvGrpSpPr/>
          <p:nvPr/>
        </p:nvGrpSpPr>
        <p:grpSpPr>
          <a:xfrm>
            <a:off x="0" y="0"/>
            <a:ext cx="4419360" cy="459720"/>
            <a:chOff x="0" y="0"/>
            <a:chExt cx="4419360" cy="459720"/>
          </a:xfrm>
        </p:grpSpPr>
        <p:sp>
          <p:nvSpPr>
            <p:cNvPr id="141" name="Rectangle 6"/>
            <p:cNvSpPr/>
            <p:nvPr/>
          </p:nvSpPr>
          <p:spPr>
            <a:xfrm>
              <a:off x="0" y="0"/>
              <a:ext cx="4278960" cy="457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7"/>
            <p:cNvSpPr/>
            <p:nvPr/>
          </p:nvSpPr>
          <p:spPr>
            <a:xfrm>
              <a:off x="4164480" y="3960"/>
              <a:ext cx="254880" cy="453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Text Box 8"/>
            <p:cNvSpPr/>
            <p:nvPr/>
          </p:nvSpPr>
          <p:spPr>
            <a:xfrm>
              <a:off x="549720" y="0"/>
              <a:ext cx="3588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Example Exercise 8-3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114800" cy="2544480"/>
          </a:xfrm>
          <a:prstGeom prst="rect">
            <a:avLst/>
          </a:prstGeom>
          <a:solidFill>
            <a:srgbClr val="e8dec6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$40,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$4,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$175,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$17,5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2"/>
          <p:cNvSpPr/>
          <p:nvPr/>
        </p:nvSpPr>
        <p:spPr>
          <a:xfrm>
            <a:off x="0" y="372960"/>
            <a:ext cx="3048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3"/>
          <p:cNvSpPr/>
          <p:nvPr/>
        </p:nvSpPr>
        <p:spPr>
          <a:xfrm>
            <a:off x="457200" y="662040"/>
            <a:ext cx="8305920" cy="2609640"/>
          </a:xfrm>
          <a:prstGeom prst="rect">
            <a:avLst/>
          </a:prstGeom>
          <a:solidFill>
            <a:srgbClr val="e8dec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5724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t the end of the current year, Accounts Receivable has a balance of $800,000; Allowance for Doubtful Accounts has a credit balance of $7,500; and net sales for the year total $3,500,000. Bad debt expense is estimated at ½ of 1% of net sal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24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termine (b) the adjusted balances of Accounts Receivable, Allowance for Doubtful Accounts, and Bad Debt Expens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4"/>
          <p:cNvSpPr/>
          <p:nvPr/>
        </p:nvSpPr>
        <p:spPr>
          <a:xfrm>
            <a:off x="0" y="3200400"/>
            <a:ext cx="83818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457200" y="3524400"/>
          <a:ext cx="8229600" cy="280332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Verdan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ccounts Receivable, $792,500; Allowance for Doubtful Accounts, $17,500; and Bad Debt Expense, $17,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Verdana"/>
                        <a:buAutoNum type="arabicPeriod" startAt="2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ccounts Receivable, $800,000; Allowance for Doubtful Accounts, $25,000; and Bad Debt Expense, $17,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Verdana"/>
                        <a:buAutoNum type="arabicPeriod" startAt="3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ccounts Receivable, $800,000; Allowance for Doubtful Accounts, $17,500; and Bad Debt Expense, $17,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Verdana"/>
                        <a:buAutoNum type="arabicPeriod" startAt="4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ccounts Receivable, $800,000; Allowance for Doubtful Accounts, $25,000; and Bad Debt Expense, $25,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</a:tr>
            </a:tbl>
          </a:graphicData>
        </a:graphic>
      </p:graphicFrame>
      <p:grpSp>
        <p:nvGrpSpPr>
          <p:cNvPr id="149" name="Group 17"/>
          <p:cNvGrpSpPr/>
          <p:nvPr/>
        </p:nvGrpSpPr>
        <p:grpSpPr>
          <a:xfrm>
            <a:off x="0" y="0"/>
            <a:ext cx="4419360" cy="459720"/>
            <a:chOff x="0" y="0"/>
            <a:chExt cx="4419360" cy="459720"/>
          </a:xfrm>
        </p:grpSpPr>
        <p:sp>
          <p:nvSpPr>
            <p:cNvPr id="150" name="Rectangle 18"/>
            <p:cNvSpPr/>
            <p:nvPr/>
          </p:nvSpPr>
          <p:spPr>
            <a:xfrm>
              <a:off x="0" y="0"/>
              <a:ext cx="4278960" cy="457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Oval 19"/>
            <p:cNvSpPr/>
            <p:nvPr/>
          </p:nvSpPr>
          <p:spPr>
            <a:xfrm>
              <a:off x="4164480" y="3960"/>
              <a:ext cx="254880" cy="453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Text Box 20"/>
            <p:cNvSpPr/>
            <p:nvPr/>
          </p:nvSpPr>
          <p:spPr>
            <a:xfrm>
              <a:off x="549720" y="0"/>
              <a:ext cx="3588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Example Exercise 8-3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731880"/>
          </a:xfrm>
          <a:prstGeom prst="rect">
            <a:avLst/>
          </a:prstGeom>
          <a:solidFill>
            <a:srgbClr val="e8dec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oose Answ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Group 5"/>
          <p:cNvGrpSpPr/>
          <p:nvPr/>
        </p:nvGrpSpPr>
        <p:grpSpPr>
          <a:xfrm>
            <a:off x="0" y="0"/>
            <a:ext cx="4419360" cy="459720"/>
            <a:chOff x="0" y="0"/>
            <a:chExt cx="4419360" cy="459720"/>
          </a:xfrm>
        </p:grpSpPr>
        <p:sp>
          <p:nvSpPr>
            <p:cNvPr id="155" name="Rectangle 6"/>
            <p:cNvSpPr/>
            <p:nvPr/>
          </p:nvSpPr>
          <p:spPr>
            <a:xfrm>
              <a:off x="0" y="0"/>
              <a:ext cx="4278960" cy="457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Oval 7"/>
            <p:cNvSpPr/>
            <p:nvPr/>
          </p:nvSpPr>
          <p:spPr>
            <a:xfrm>
              <a:off x="4164480" y="3960"/>
              <a:ext cx="254880" cy="453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Text Box 8"/>
            <p:cNvSpPr/>
            <p:nvPr/>
          </p:nvSpPr>
          <p:spPr>
            <a:xfrm>
              <a:off x="549720" y="0"/>
              <a:ext cx="3588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Example Exercise 8-3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58" name="TPChart"/>
          <p:cNvGraphicFramePr/>
          <p:nvPr/>
        </p:nvGraphicFramePr>
        <p:xfrm>
          <a:off x="4572000" y="1714680"/>
          <a:ext cx="4572000" cy="514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1714680"/>
                    <a:ext cx="4572000" cy="514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04920" y="1752480"/>
            <a:ext cx="4572000" cy="4648320"/>
          </a:xfrm>
          <a:prstGeom prst="rect">
            <a:avLst/>
          </a:prstGeom>
          <a:solidFill>
            <a:srgbClr val="e8dec6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ccounts Receivable, $792,500; Allowance for Doubtful Accounts, $17,500; and Bad Debt Expense, $17,5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ccounts Receivable, $800,000; Allowance for Doubtful Accounts, $25,000; and Bad Debt Expense, $17,5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ccounts Receivable, $800,000; Allowance for Doubtful Accounts, $17,500; and Bad Debt Expense, $17,5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ccounts Receivable, $800,000; Allowance for Doubtful Accounts, $25,000; and Bad Debt Expense, $25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2"/>
          <p:cNvSpPr/>
          <p:nvPr/>
        </p:nvSpPr>
        <p:spPr>
          <a:xfrm>
            <a:off x="0" y="372960"/>
            <a:ext cx="3048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457200" y="843120"/>
            <a:ext cx="8305920" cy="1368720"/>
          </a:xfrm>
          <a:prstGeom prst="rect">
            <a:avLst/>
          </a:prstGeom>
          <a:solidFill>
            <a:srgbClr val="e8dec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99960" indent="-34272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e Day Surgery Center received a 120-day, 6% note for $40,000, dated March 14 from a patient on acc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Group 4"/>
          <p:cNvGrpSpPr/>
          <p:nvPr/>
        </p:nvGrpSpPr>
        <p:grpSpPr>
          <a:xfrm>
            <a:off x="0" y="0"/>
            <a:ext cx="4419360" cy="459720"/>
            <a:chOff x="0" y="0"/>
            <a:chExt cx="4419360" cy="459720"/>
          </a:xfrm>
        </p:grpSpPr>
        <p:sp>
          <p:nvSpPr>
            <p:cNvPr id="164" name="Rectangle 5"/>
            <p:cNvSpPr/>
            <p:nvPr/>
          </p:nvSpPr>
          <p:spPr>
            <a:xfrm>
              <a:off x="0" y="0"/>
              <a:ext cx="4278960" cy="457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Oval 6"/>
            <p:cNvSpPr/>
            <p:nvPr/>
          </p:nvSpPr>
          <p:spPr>
            <a:xfrm>
              <a:off x="4164480" y="3960"/>
              <a:ext cx="254880" cy="453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Text Box 7"/>
            <p:cNvSpPr/>
            <p:nvPr/>
          </p:nvSpPr>
          <p:spPr>
            <a:xfrm>
              <a:off x="549720" y="0"/>
              <a:ext cx="3588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Example Exercise 8-5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Text Box 8"/>
          <p:cNvSpPr/>
          <p:nvPr/>
        </p:nvSpPr>
        <p:spPr>
          <a:xfrm>
            <a:off x="457200" y="2428920"/>
            <a:ext cx="8305920" cy="520560"/>
          </a:xfrm>
          <a:prstGeom prst="rect">
            <a:avLst/>
          </a:prstGeom>
          <a:solidFill>
            <a:srgbClr val="e8de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1880" indent="-461880">
              <a:spcBef>
                <a:spcPts val="876"/>
              </a:spcBef>
              <a:buClr>
                <a:srgbClr val="000000"/>
              </a:buClr>
              <a:buFont typeface="Arial"/>
              <a:buAutoNum type="alphaL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e the maturity value of the no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457200" y="3200400"/>
          <a:ext cx="8229600" cy="214308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55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Verdan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40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</a:tr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Verdana"/>
                        <a:buAutoNum type="arabicPeriod" startAt="2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42,4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</a:tr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Verdana"/>
                        <a:buAutoNum type="arabicPeriod" startAt="3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40,8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Verdana"/>
                        <a:buAutoNum type="arabicPeriod" startAt="4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41,2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761760"/>
          </a:xfrm>
          <a:prstGeom prst="rect">
            <a:avLst/>
          </a:prstGeom>
          <a:solidFill>
            <a:srgbClr val="e8dec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oose Answ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0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1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2" name="Group 5"/>
          <p:cNvGrpSpPr/>
          <p:nvPr/>
        </p:nvGrpSpPr>
        <p:grpSpPr>
          <a:xfrm>
            <a:off x="0" y="0"/>
            <a:ext cx="4419360" cy="459720"/>
            <a:chOff x="0" y="0"/>
            <a:chExt cx="4419360" cy="459720"/>
          </a:xfrm>
        </p:grpSpPr>
        <p:sp>
          <p:nvSpPr>
            <p:cNvPr id="173" name="Rectangle 6"/>
            <p:cNvSpPr/>
            <p:nvPr/>
          </p:nvSpPr>
          <p:spPr>
            <a:xfrm>
              <a:off x="0" y="0"/>
              <a:ext cx="4278960" cy="457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Oval 7"/>
            <p:cNvSpPr/>
            <p:nvPr/>
          </p:nvSpPr>
          <p:spPr>
            <a:xfrm>
              <a:off x="4164480" y="3960"/>
              <a:ext cx="254880" cy="453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Text Box 8"/>
            <p:cNvSpPr/>
            <p:nvPr/>
          </p:nvSpPr>
          <p:spPr>
            <a:xfrm>
              <a:off x="549720" y="0"/>
              <a:ext cx="3588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Example Exercise 8-5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114800" cy="2819520"/>
          </a:xfrm>
          <a:prstGeom prst="rect">
            <a:avLst/>
          </a:prstGeom>
          <a:solidFill>
            <a:srgbClr val="e8dec6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$40,0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$42,4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$40,8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$41,2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 Box 2"/>
          <p:cNvSpPr/>
          <p:nvPr/>
        </p:nvSpPr>
        <p:spPr>
          <a:xfrm>
            <a:off x="0" y="372960"/>
            <a:ext cx="3048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3"/>
          <p:cNvSpPr/>
          <p:nvPr/>
        </p:nvSpPr>
        <p:spPr>
          <a:xfrm>
            <a:off x="457200" y="949320"/>
            <a:ext cx="8305920" cy="1368720"/>
          </a:xfrm>
          <a:prstGeom prst="rect">
            <a:avLst/>
          </a:prstGeom>
          <a:solidFill>
            <a:srgbClr val="e8dec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99960" indent="-34272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e Day Surgery Center received a 120-day, 6% note for $40,000, dated March 14 from a patient on acc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Group 11"/>
          <p:cNvGrpSpPr/>
          <p:nvPr/>
        </p:nvGrpSpPr>
        <p:grpSpPr>
          <a:xfrm>
            <a:off x="0" y="0"/>
            <a:ext cx="4419360" cy="459720"/>
            <a:chOff x="0" y="0"/>
            <a:chExt cx="4419360" cy="459720"/>
          </a:xfrm>
        </p:grpSpPr>
        <p:sp>
          <p:nvSpPr>
            <p:cNvPr id="180" name="Rectangle 12"/>
            <p:cNvSpPr/>
            <p:nvPr/>
          </p:nvSpPr>
          <p:spPr>
            <a:xfrm>
              <a:off x="0" y="0"/>
              <a:ext cx="4278960" cy="457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Oval 13"/>
            <p:cNvSpPr/>
            <p:nvPr/>
          </p:nvSpPr>
          <p:spPr>
            <a:xfrm>
              <a:off x="4164480" y="3960"/>
              <a:ext cx="254880" cy="453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 Box 14"/>
            <p:cNvSpPr/>
            <p:nvPr/>
          </p:nvSpPr>
          <p:spPr>
            <a:xfrm>
              <a:off x="549720" y="0"/>
              <a:ext cx="3588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Example Exercise 8-5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Text Box 15"/>
          <p:cNvSpPr/>
          <p:nvPr/>
        </p:nvSpPr>
        <p:spPr>
          <a:xfrm>
            <a:off x="457200" y="4281480"/>
            <a:ext cx="8305920" cy="969480"/>
          </a:xfrm>
          <a:prstGeom prst="rect">
            <a:avLst/>
          </a:prstGeom>
          <a:solidFill>
            <a:srgbClr val="e8de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6"/>
              </a:spcBef>
              <a:tabLst>
                <a:tab algn="l" pos="0"/>
                <a:tab algn="l" pos="519120"/>
                <a:tab algn="l" pos="1082520"/>
                <a:tab algn="r" pos="5369040"/>
                <a:tab algn="r" pos="66247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s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0,8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519120"/>
                <a:tab algn="l" pos="1082520"/>
                <a:tab algn="r" pos="5369040"/>
                <a:tab algn="r" pos="66247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e Receivab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0,8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16"/>
          <p:cNvSpPr/>
          <p:nvPr/>
        </p:nvSpPr>
        <p:spPr>
          <a:xfrm>
            <a:off x="457200" y="2655720"/>
            <a:ext cx="8305920" cy="1373760"/>
          </a:xfrm>
          <a:prstGeom prst="rect">
            <a:avLst/>
          </a:prstGeom>
          <a:solidFill>
            <a:srgbClr val="e8de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1880" indent="-461880">
              <a:spcBef>
                <a:spcPts val="876"/>
              </a:spcBef>
              <a:buClr>
                <a:srgbClr val="000000"/>
              </a:buClr>
              <a:buFont typeface="Arial"/>
              <a:buAutoNum type="alphaL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journal entry to record the receipt of the payment of the note at maturity is 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RUE OR FAL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09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companies such as Oakley, Inc. collect on all of their credit transac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2189160"/>
            <a:ext cx="4114800" cy="116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716040"/>
            <a:ext cx="8229600" cy="884160"/>
          </a:xfrm>
          <a:prstGeom prst="rect">
            <a:avLst/>
          </a:prstGeom>
          <a:solidFill>
            <a:srgbClr val="e8dec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oose Answ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6" name="TPChart"/>
          <p:cNvGraphicFramePr/>
          <p:nvPr/>
        </p:nvGraphicFramePr>
        <p:xfrm>
          <a:off x="5143680" y="2514600"/>
          <a:ext cx="3862080" cy="434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43680" y="2514600"/>
                    <a:ext cx="3862080" cy="434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88" name="Group 5"/>
          <p:cNvGrpSpPr/>
          <p:nvPr/>
        </p:nvGrpSpPr>
        <p:grpSpPr>
          <a:xfrm>
            <a:off x="0" y="0"/>
            <a:ext cx="4419360" cy="459720"/>
            <a:chOff x="0" y="0"/>
            <a:chExt cx="4419360" cy="459720"/>
          </a:xfrm>
        </p:grpSpPr>
        <p:sp>
          <p:nvSpPr>
            <p:cNvPr id="189" name="Rectangle 6"/>
            <p:cNvSpPr/>
            <p:nvPr/>
          </p:nvSpPr>
          <p:spPr>
            <a:xfrm>
              <a:off x="0" y="0"/>
              <a:ext cx="4278960" cy="457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Oval 7"/>
            <p:cNvSpPr/>
            <p:nvPr/>
          </p:nvSpPr>
          <p:spPr>
            <a:xfrm>
              <a:off x="4164480" y="3960"/>
              <a:ext cx="254880" cy="453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Text Box 8"/>
            <p:cNvSpPr/>
            <p:nvPr/>
          </p:nvSpPr>
          <p:spPr>
            <a:xfrm>
              <a:off x="549720" y="0"/>
              <a:ext cx="3588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Example Exercise 8-5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Text Box 9"/>
          <p:cNvSpPr/>
          <p:nvPr/>
        </p:nvSpPr>
        <p:spPr>
          <a:xfrm>
            <a:off x="457200" y="574560"/>
            <a:ext cx="8305920" cy="637560"/>
          </a:xfrm>
          <a:prstGeom prst="rect">
            <a:avLst/>
          </a:prstGeom>
          <a:solidFill>
            <a:srgbClr val="e8dec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99960" indent="-34272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me Day Surgery Center received a 120-day, 6% note for $40,000, dated March 14 from a patient on accou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10"/>
          <p:cNvSpPr/>
          <p:nvPr/>
        </p:nvSpPr>
        <p:spPr>
          <a:xfrm>
            <a:off x="457200" y="1828800"/>
            <a:ext cx="8305920" cy="657000"/>
          </a:xfrm>
          <a:prstGeom prst="rect">
            <a:avLst/>
          </a:prstGeom>
          <a:solidFill>
            <a:srgbClr val="e8de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3"/>
              </a:spcBef>
              <a:tabLst>
                <a:tab algn="l" pos="0"/>
                <a:tab algn="l" pos="519120"/>
                <a:tab algn="l" pos="1082520"/>
                <a:tab algn="r" pos="5369040"/>
                <a:tab algn="r" pos="66247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s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,8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113"/>
              </a:spcBef>
              <a:tabLst>
                <a:tab algn="l" pos="0"/>
                <a:tab algn="l" pos="519120"/>
                <a:tab algn="l" pos="1082520"/>
                <a:tab algn="r" pos="5369040"/>
                <a:tab algn="r" pos="66247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e Receivab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,8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11"/>
          <p:cNvSpPr/>
          <p:nvPr/>
        </p:nvSpPr>
        <p:spPr>
          <a:xfrm>
            <a:off x="457200" y="1219320"/>
            <a:ext cx="8305920" cy="642600"/>
          </a:xfrm>
          <a:prstGeom prst="rect">
            <a:avLst/>
          </a:prstGeom>
          <a:solidFill>
            <a:srgbClr val="e8de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1880" indent="-461880">
              <a:spcBef>
                <a:spcPts val="561"/>
              </a:spcBef>
              <a:buClr>
                <a:srgbClr val="000000"/>
              </a:buClr>
              <a:buFont typeface="Arial"/>
              <a:buAutoNum type="alphaL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journal entry to record the receipt of the payment of the note at maturity is 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UE OR FALS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09480" y="2971440"/>
            <a:ext cx="4114800" cy="1523880"/>
          </a:xfrm>
          <a:prstGeom prst="rect">
            <a:avLst/>
          </a:prstGeom>
          <a:solidFill>
            <a:srgbClr val="e8dec6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137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service companies and merchandising companies use the same rules for recording and reporting accounts receivable transactio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2112480"/>
            <a:ext cx="4114800" cy="116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63360"/>
            <a:ext cx="8229600" cy="157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small and large companies use the same rules for recording and reporting accounts receivable transac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114800" cy="116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9692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counts Receivable is credited when a company has a credit sal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2265480"/>
            <a:ext cx="4114800" cy="116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2996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methods of accounting for uncollectibles are the direct write-off method and the allowance meth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TPChart"/>
          <p:cNvGraphicFramePr/>
          <p:nvPr/>
        </p:nvGraphicFramePr>
        <p:xfrm>
          <a:off x="4508640" y="1836720"/>
          <a:ext cx="4483080" cy="495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836720"/>
                    <a:ext cx="4483080" cy="49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2265480"/>
            <a:ext cx="4114800" cy="116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09600"/>
            <a:ext cx="8229600" cy="137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der the allowance method, Bad Debt Expense is recorded by estimating uncollectible accounts at the end of the accounting peri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2265480"/>
            <a:ext cx="4114800" cy="116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12400"/>
            <a:ext cx="822960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losing entry reduces receivables to their net realizable value and reduces the uncollectible expense with revenu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TPChart"/>
          <p:cNvGraphicFramePr/>
          <p:nvPr/>
        </p:nvGraphicFramePr>
        <p:xfrm>
          <a:off x="4508640" y="1752480"/>
          <a:ext cx="4481280" cy="504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752480"/>
                    <a:ext cx="4481280" cy="504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2265480"/>
            <a:ext cx="4114800" cy="116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3T17:02:36Z</dcterms:created>
  <dc:creator> </dc:creator>
  <dc:description/>
  <dc:language>en-US</dc:language>
  <cp:lastModifiedBy>Leslie</cp:lastModifiedBy>
  <dcterms:modified xsi:type="dcterms:W3CDTF">2008-12-30T03:05:39Z</dcterms:modified>
  <cp:revision>47</cp:revision>
  <dc:subject/>
  <dc:title>Do you think that FedEx Kinko’s provides a large amount of its services to its customers on account?</dc:title>
</cp:coreProperties>
</file>