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D93-4F12-4970-8DBD-4060C362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5BF-4AE8-48E5-9EB4-B6CE32E9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D27-9DA9-47D1-8825-19F37FA8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973-FAA3-454B-A499-74F1E5A2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29F9-C0B6-47C5-BDC6-4895DFC4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00E-109B-4201-B808-20A1BF65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B65-D96F-4B54-9E15-3F43C6DE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BF4-FD3A-439B-8C8B-09266C07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81A5-79CB-4BD9-8F19-208D431C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5435-E6B2-4F20-9CE3-CB5448A3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915-B84A-44D0-81F7-2DA94A29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39F-8872-477A-A0E0-5E03320A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2B05-5557-4E0A-8A26-EC393A79C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ccounting cycle for Electronic Arts Inc. different from other compa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step in the accounting cycle is the preparation of the financial stat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all closing entries have been journalized and posted, the account balances for all temporary accounts will be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nual accounting period adopted by a business is known as its fiscal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orksheet is used at the end of the accounting period t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95480"/>
            <a:ext cx="4114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alize adjusting e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alize closing e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55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 of the balance sheet that expands the assets and liabilities sections to include current assets, property, plant and equipment, current liabilities, and long-term liabilities is called a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lassified balanc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ed balanc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-end balanc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balanc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s and amounts on the post-closing trial balance should agree exactly with the accounts and amounts listed o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TPChart" descr=""/>
          <p:cNvPicPr/>
          <p:nvPr/>
        </p:nvPicPr>
        <p:blipFill>
          <a:blip r:embed="rId1"/>
          <a:stretch/>
        </p:blipFill>
        <p:spPr>
          <a:xfrm>
            <a:off x="4508640" y="1917720"/>
            <a:ext cx="4483080" cy="4871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1148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ained earnings stat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ed trial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statement accounts that are not carried forward from year to year are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114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ry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inal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ing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correct sequencing for closing the temporary accou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ense accounts, revenue accounts, Income Summary account, Dividends accou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enue accounts, expense accounts, Income Summary account, Dividends accou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enue accounts, expense accounts, Dividends account, Income Summary accou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vidends account, revenue accounts, expense accounts, Income Summary accou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come summary account is only used dur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26800"/>
            <a:ext cx="41148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ass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PChart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4132080" cy="4648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053720"/>
            <a:ext cx="41148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property, plant, an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reported directly below property, plant, an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expected to be converted to cash or sold or used up usually within one year or l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reported on the income statement with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Electronic Arts Inc. follow generally accepted accounting principles throughout its cycle of business activ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journal entry to close revenue accounts incl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revenue accounts and crediting the Income Summary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Income Summary account and crediting the revenue accou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revenue accounts and crediting the Retained Earnings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revenue accounts and crediting the Dividends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journal entry to close expense accounts incl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expense accounts and crediting the Income Summary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Income Summary account and crediting the expense accou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expense accounts and crediting the Retained Earnings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expense accounts and crediting the Dividends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276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accounts is not closed to the Income Summary accou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revenue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 expense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nds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ges expense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57200" y="739800"/>
            <a:ext cx="8305920" cy="19177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lances for the accounts listed below appear in the Adjusted Trial Balance columns of the end-of-period spreadsheet (work sheet). Indicate whether each balance should be extended to (a) an Income Statement column or (b) a Balance Sheet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880" y="4049640"/>
          <a:ext cx="8382240" cy="2200320"/>
        </p:xfrm>
        <a:graphic>
          <a:graphicData uri="http://schemas.openxmlformats.org/drawingml/2006/table">
            <a:tbl>
              <a:tblPr/>
              <a:tblGrid>
                <a:gridCol w="8382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Income statement column &amp; (3) Balance sheet colu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Income statement column &amp; (3) Income statement colu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Balance sheet column &amp; (3) Balance sheet colu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Balance sheet column &amp; (3) Income statement colu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457200" y="2978280"/>
            <a:ext cx="8305920" cy="825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203640"/>
                <a:tab algn="l" pos="3549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3203640"/>
                <a:tab algn="l" pos="3549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mulated Deprec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8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13" name="Rectangle 19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0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1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1 (1&amp;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TPChart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403848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5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19" name="Rectangle 6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7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8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1 (1&amp;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5029200" cy="304812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) Income statement column &amp; (3) Balance sheet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) Income statement column &amp; (3) Income statement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) Balance sheet column &amp; (3) Balance sheet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) Balance sheet column &amp; (3) Income statement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4140360"/>
          <a:ext cx="8305920" cy="203040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75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04,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44,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9,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19,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25" name="Group 23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26" name="Rectangle 24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5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6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7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457200" y="762120"/>
            <a:ext cx="8305920" cy="301500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ck Gaddis owns and operates Gaddis Employment Services. On January 1, 2009, Retained Earnings had a balance of $186,000. During the year, an additional $40,000 of capital stock was issued for cash and dividends of $25,000 were paid. For the year ended December 31, 2009, Gaddis Employment Services reported a net income of $18,750. The ending balance in Retained Earnings at 12/31/2009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TPChart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26708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4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4114800" cy="243828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204,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244,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79,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219,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685800"/>
            <a:ext cx="8305920" cy="228348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ccounts appear in the adjusted trial balance of Hindsight Consulting. Indicate whether each account would be reported in the (a) current asset; (b) property, plant, and equipment; (c) current liability; (d) long-term liability; or (e) stockholders’ equity section of the December 31, 2009, balance sheet of Hindsight Consul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4191120"/>
          <a:ext cx="8331120" cy="2493720"/>
        </p:xfrm>
        <a:graphic>
          <a:graphicData uri="http://schemas.openxmlformats.org/drawingml/2006/table">
            <a:tbl>
              <a:tblPr/>
              <a:tblGrid>
                <a:gridCol w="6365880"/>
                <a:gridCol w="216000"/>
                <a:gridCol w="174924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Current asset &amp; (6) Current li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Stockholders’ equity &amp; (6) Current li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Current asset &amp; (6) Long-term li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Stockholders’ equity &amp; (6) Long-term li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41" name="Group 24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42" name="Rectangle 25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6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7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4 (1&amp;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28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9"/>
          <p:cNvSpPr/>
          <p:nvPr/>
        </p:nvSpPr>
        <p:spPr>
          <a:xfrm>
            <a:off x="457200" y="3130560"/>
            <a:ext cx="8305920" cy="825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arned Rent (3 month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TPChart" descr=""/>
          <p:cNvPicPr/>
          <p:nvPr/>
        </p:nvPicPr>
        <p:blipFill>
          <a:blip r:embed="rId1"/>
          <a:stretch/>
        </p:blipFill>
        <p:spPr>
          <a:xfrm>
            <a:off x="4813200" y="2057400"/>
            <a:ext cx="433548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5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50" name="Rectangle 6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8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4 (1&amp;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343400" cy="396252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Current asset &amp; (6) Current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Stockholders’ equity &amp; (6) Current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Current asset &amp; (6) Long-term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Stockholders’ equity &amp; (6) Long-term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457200" y="755640"/>
            <a:ext cx="8305920" cy="228348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ccounts appear in the adjusted trial balance of Hindsight Consulting. Indicate whether each account would be reported in the (a) current asset; (b) property, plant, and equipment; (c) current liability; (d) long-term liability; or (e) stockholders’ equity section of the December 31, 2009, balance sheet of Hindsight Consul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4176720"/>
          <a:ext cx="8305920" cy="2390760"/>
        </p:xfrm>
        <a:graphic>
          <a:graphicData uri="http://schemas.openxmlformats.org/drawingml/2006/table">
            <a:tbl>
              <a:tblPr/>
              <a:tblGrid>
                <a:gridCol w="8077320"/>
                <a:gridCol w="228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) Long-term liability &amp; (7) Current li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) Current liability &amp; (7) Current li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) Long-term liability &amp; (7) Property, plant, &amp; equi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) Current liability &amp; (7) Property, plant, &amp; equi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20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457200" y="3206880"/>
            <a:ext cx="8305920" cy="825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 Payable (due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mulated Deprec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2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60" name="Rectangle 23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5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4 (3&amp;7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Electronic Arts Inc. follow the same accounting cycle annually to prepare its financial stat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TPChart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4043160" cy="464832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1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66" name="Rectangle 12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3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4 (3&amp;7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648320" cy="396216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) Long-term liability &amp; (7) Current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) Current liability &amp;     (7) Current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) Long-term liability &amp; (7) Property, plant, &amp;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) Current liability &amp;     (7) Property, plant, &amp;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248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financial statements that are published on the Web site for Electronic Arts Inc. prepared by public account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4177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a complicated process for Electronic Arts Inc. to get its accounts ready for recording the operations of the next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TPChart" descr=""/>
          <p:cNvPicPr/>
          <p:nvPr/>
        </p:nvPicPr>
        <p:blipFill>
          <a:blip r:embed="rId1"/>
          <a:stretch/>
        </p:blipFill>
        <p:spPr>
          <a:xfrm>
            <a:off x="4191120" y="1714680"/>
            <a:ext cx="4952880" cy="5143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ksheet is a formal financial state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manent accounts are also called real accou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300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common classes of liabilities are current liabilities and short-term liabili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TPChart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69440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entries transfer the balance of temporary accounts to the retained earnings acc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TPChart" descr=""/>
          <p:cNvPicPr/>
          <p:nvPr/>
        </p:nvPicPr>
        <p:blipFill>
          <a:blip r:embed="rId1"/>
          <a:stretch/>
        </p:blipFill>
        <p:spPr>
          <a:xfrm>
            <a:off x="4343400" y="1968480"/>
            <a:ext cx="4635360" cy="48895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23:39:57Z</dcterms:created>
  <dc:creator> </dc:creator>
  <dc:description/>
  <dc:language>en-US</dc:language>
  <cp:lastModifiedBy>Leslie</cp:lastModifiedBy>
  <dcterms:modified xsi:type="dcterms:W3CDTF">2008-12-30T02:56:03Z</dcterms:modified>
  <cp:revision>66</cp:revision>
  <dc:subject/>
  <dc:title>Is the accounting process for Electronic Arts Inc. different from other companies?</dc:title>
</cp:coreProperties>
</file>