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9A9-05AB-47A7-A0CD-65352EFE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0B5-310E-429A-9B26-331CC59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1C8-49D6-4498-9AC9-CE9A89D2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3E9-0924-42B6-9515-01A6E7C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02C-28A7-4E7A-A186-F7C46E7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C3E-E0A6-4C9B-92DC-C5335125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3F1-5265-460C-95D4-48BBC853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C0B-5258-4DCF-9464-6F3808B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217-EA34-4438-8671-E01E5447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9C1-64A1-47ED-8F89-5631C106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773-18B0-488C-A3A8-3487A05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26D-EC10-4894-AB87-7775667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958C-6E69-45C5-B423-0B696C31F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ontrols the same as laws for a busi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fraud is the intentional act of deceiving an employer for personal 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bank reconciliation, the adjusted balances in the bank and company sections do not have to be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tty cash fund does not need control procedures because it deals only with small expendi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2093760"/>
          <a:ext cx="4406760" cy="470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93760"/>
                    <a:ext cx="440676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982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n objective of internal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ssets are safeguarded and used for business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business information i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mployees comply with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ccountants do their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factor that influences a company’s  control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84140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philosophy and operat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personne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t personnel, rotating duties, and mandatory vacations are examples of which element of internal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on internal control of cash receipt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tty cash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car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the duties of the cashiers and the account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procedures for authorizing and recording liabilities and cash payment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uc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unds transfer (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entries are required by a business when preparing a bank reconciliation for all of the following ex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s receivable and interest by the bank for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NSF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s in tran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nk would issue a credit memorandum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servic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rinting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 receivable and interest for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F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have the same controls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paring a bank reconciliation, debits to cash not on the bank statement, such as deposits in transit,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enishing a petty cash fund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bit to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s to expense accounts for the related summarized  petty cash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to Petty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ournal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may require depositors to maintain minimum cash balances in their bank account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ng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ty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05920" cy="1186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ach of the following as relating to (a) the control environment, (b) risk assessment, or (c) contro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3679920"/>
          <a:ext cx="8305920" cy="24937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1 &amp; 2 are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1 &amp; 3 are control procedures; 2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1 is control procedures; 2 is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1 is control environment; 2 is control procedures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2" name="Group 1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3" name="Rectangle 1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457200" y="205740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5720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457200" y="215568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va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f outside consultants on future marke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2 are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3 are control procedures; 2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procedures; 2 is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environment; 2 is control procedures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69228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data were gathered to use in reconciling the bank account of Photo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41911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5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1"/>
          <p:cNvSpPr/>
          <p:nvPr/>
        </p:nvSpPr>
        <p:spPr>
          <a:xfrm>
            <a:off x="457200" y="1676520"/>
            <a:ext cx="8305920" cy="2387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b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company 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 in tran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djusted balance on the bank reconcili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8,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3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6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4,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838080"/>
            <a:ext cx="8305920" cy="3113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ransactions affected the petty cash f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Issued check to establish a petty cash fund of $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The amount of cash in the petty cash fund is $120. Issued a check to replenish the fund, based on the following summary of petty cash receipts: office supplies, $300 and miscellaneous administrative expense, $75. Record any missing funds in the cash short and over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journal entries below correct to record the petty cash event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9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5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57200" y="416736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457200" y="4776840"/>
            <a:ext cx="8305920" cy="1234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Supp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Administrative Exp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Short and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having controls helps with the success of a company such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small and large companies use the same kinds of internal con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expensive to implement controls in a company as big as eBay Inc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rbanes-Oxley applies only to publicly held compan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ublicly held companies need to have a system of internal control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Sarbanes-Oxley Act of 2002 is to restore public confidence and trust in the financial reporting of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828800"/>
          <a:ext cx="441324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28800"/>
                    <a:ext cx="44132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 is the asset most likely to be diverted and used improperly by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6:26:30Z</dcterms:created>
  <dc:creator> </dc:creator>
  <dc:description/>
  <dc:language>en-US</dc:language>
  <cp:lastModifiedBy>Leslie</cp:lastModifiedBy>
  <dcterms:modified xsi:type="dcterms:W3CDTF">2008-12-30T03:04:22Z</dcterms:modified>
  <cp:revision>33</cp:revision>
  <dc:subject/>
  <dc:title>Are controls the same as laws for a business?</dc:title>
</cp:coreProperties>
</file>