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2A7-39DD-4D79-88B1-DBB148D0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46F-F6E2-46D9-8E69-85512D2B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128-454C-4A66-99BD-402BA8C8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07A-12B8-46E6-81CA-1B7A7788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29A-CF35-4547-92D2-6729A3E4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4FA-F930-4ADA-97CD-2600895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209-13E7-4A04-87A3-5D73757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360-C29F-4D74-82BC-284800DC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14-07C1-46F3-B3A4-55493148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3D6-ACA6-405F-8DD0-5B2D9286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CBF-1E91-4C35-9316-8DB6F73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035-E322-4A81-9CCF-BECE0B8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5342-3ABA-4AF6-91ED-EC98BF638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person start a corporation with a minimal cash inves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d depreciation measures the decline in the market value of a fixed ass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vising useful life and residual value estimates for an asset, the revisions only affect the amounts of depreciation expense for future perio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fixed asset is sold for an amount different from its book value, it is not necessary to record a gain or a loss on the disposal of the as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of the following are included as costs of acquiring equipment ex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 maintenan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an accelerated depreciation method i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declin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of the following depreciation methods provides for equal amounts of depreciation expense for each year of the fixed asset’s useful lif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declin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s that improve the asset or extend its useful lif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7928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d with the cost of th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ed in the curr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expendi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ed for separately from the cost of th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 a capital lease, the lessee records the payments at fair value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3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Operating Lease Expens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an asset and crediting Long-term Lease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an asset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Operating Lease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consideration when calculating depreciation for a fixed as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use of the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usefu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etion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4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to recognize the declining market value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reducing the value of intangible asse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to record the spoilage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transferring costs for natural resources to an expens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investment given to start a Fatburger restaurant include more than the rights to use the name of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an example of an intangible as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 assets are normally reported on the balance sheet of a company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, plant, and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 separate 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depreciation for a fixed asset would includ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4114800" cy="25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Accumulated Depr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Fixed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Depreciation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00980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18, GTS Co. paid $1,200 to upgrade a hydraulic lift and $45 for an oil change for one of its delivery trucks. The amount that should be debit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Delivery Truck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311472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2819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,2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,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76212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acquired at the beginning of the year at a cost of $125,000 has an estimated residual value of $5,000 and an estimated useful life of 10 years. Determine (a) the depreciable cost, (b) the straight-line rate, and (c) the annual straight-line 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7339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5,000, (b) 10%, &amp; (c) $1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0,000, (b) 10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5,000, (b) 10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0,000, (b) 1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0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7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114800" cy="3611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5,000, (b) 10%, &amp; (c) $12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0,000, (b) 10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5,000, (b) 10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0,000, (b) 1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71928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acquired at the beginning of the year at a cost of $125,000 has an estimated residual value of $5,000 and an estimated useful life of 10 years. Determine (a) the double-declining-balance rate and (b) the double-declining-balance depreciation for the fir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457200" y="41148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25% &amp; (b) $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10% &amp; (b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10% &amp; (b) $1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20% &amp; (b) $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2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114800" cy="3306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20% &amp; (b)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10% &amp; (b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10% &amp; (b) $12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20% &amp; (b)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cash investment in a Fatburger restaurant be shown in the company financial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corporation is formed and operating, will additional investments in fixed assets be requ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owner of a company with investments in fixed assets, is it necessary to account for the wear and tear on the fixed assets of the comp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nue expenditures improve the asset or extend its useful l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lived fixed assets held for resale are not classified as fixed assets, but as inves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st of acquiring fixed assets includes all amounts spent to get the asset in place and ready fo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752480"/>
          <a:ext cx="44812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2480"/>
                    <a:ext cx="44812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erating lease is accounted for as if the lessee is renting the asset for the leas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343400" y="1981080"/>
          <a:ext cx="463536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46353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81120"/>
            <a:ext cx="4114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7:58:33Z</dcterms:created>
  <dc:creator> </dc:creator>
  <dc:description/>
  <dc:language>en-US</dc:language>
  <cp:lastModifiedBy>Leslie</cp:lastModifiedBy>
  <dcterms:modified xsi:type="dcterms:W3CDTF">2008-12-30T03:06:43Z</dcterms:modified>
  <cp:revision>42</cp:revision>
  <dc:subject/>
  <dc:title>Is the investment for starting any corporation such as Fatburger Corporation always this costly?</dc:title>
</cp:coreProperties>
</file>