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984-704A-41A6-A05E-0681B1B7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4DA7-3B8A-4D9F-916D-30361B39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CF4-1F49-4778-871C-173A6B8A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C48C-C764-4B8C-8F0E-C9D0F0AF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1637-A635-47A8-9F6E-4F5E7139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0B4-87B3-4E2E-A5E9-76CE5BC5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EBB8-5DB9-4B87-8FCF-212B3B3A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0C0-EC62-4D96-8CD3-68243B35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98B4-F7B5-404E-BBA8-80622F23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EB9-4C67-4BB0-BC8D-A896765E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D2BB-565B-470A-A422-520D317D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8713-28EB-4B2F-A6E8-50D1FE0E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75AE-7F29-421D-9D3B-BDBC1568C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only one way to evaluate the success of companies like Nike, Inc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ncy analysis focuses on the ability of a business to pay or otherwise satisfy the returns expected by its stockhol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days’ sales in inventory is calculated by multiplying average inventory by the average daily cost of goods s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ice-earnings ratio is an indicator of a firm’s future earnings prospe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ercentage analysis of increases and decreases in related items in comparative financial statements is cal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26800"/>
            <a:ext cx="41148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iz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nc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838224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ncy analysis focuses on the ability of a busines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95480"/>
            <a:ext cx="4114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regular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n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ive over a long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or satisfy its current and noncurrent li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orking capital of a business is defined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11480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ess of current assets over current li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ess of total assets over current li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ess of total assets over total li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ess of total assets over stockholders’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not considered a component of profitability analys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9548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of net sales to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s receivabl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earned on total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earned on stock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y turnover is computed by which of the following formul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goods sold multiplied by average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sales divided by average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goods sold divided by total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goods sold divided by average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sess a company’s ability to collect its accounts receivable, a business would use a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905120"/>
          <a:ext cx="448308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05120"/>
                    <a:ext cx="448308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rat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s receivable turnover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capital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not a measure of the profitability of a busin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95480"/>
            <a:ext cx="4114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nings per share on common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capital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earned on total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of net sales to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there accounting tools to help perform financial analy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corporations are required to issue to their stockholders and interested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nel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analysi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ne of the following is not a tool in financial statement analys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various ra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accepted accounting principles (GAAP) require which of the following to be reported on the income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648320" y="1981080"/>
          <a:ext cx="43434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3434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25360"/>
            <a:ext cx="411480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earned on common stock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of fixed assets to long-term li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nings per share (E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615960"/>
            <a:ext cx="8305920" cy="8204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rative cash and accounts receivable balances for a company are provided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4267080"/>
          <a:ext cx="8229600" cy="2133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, 20% decrease; Accounts Receivable, 7.5% incr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, 20% increase; Accounts Receivable, 7.5% decr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, 25% decrease; Accounts Receivable, 7.0% incr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, 25% increase; Accounts Receivable, 7.0% decr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33" name="Group 17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34" name="Rectangle 18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9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0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21"/>
          <p:cNvSpPr/>
          <p:nvPr/>
        </p:nvSpPr>
        <p:spPr>
          <a:xfrm>
            <a:off x="457200" y="1650960"/>
            <a:ext cx="8305920" cy="398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0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457200" y="2031840"/>
            <a:ext cx="8305920" cy="7038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2,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 (ne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4,4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457200" y="2917800"/>
            <a:ext cx="8305920" cy="11912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36560"/>
                <a:tab algn="r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is information, what is the percentage of increase or decrease that would be shown in a balance sheet with horizontal analy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Group 5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44" name="Rectangle 6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4114800" cy="42973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h, 20% decrease; Accounts Receivable, 7.5% 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h, 20% increase; Accounts Receivable, 7.5% 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h, 25% decrease; Accounts Receivable, 7.0% 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h, 25% increase; Accounts Receivable, 7.0% 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57200" y="914400"/>
            <a:ext cx="8305920" cy="106380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statement information for Lee Corporation is provided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1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52" name="Rectangle 12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3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15"/>
          <p:cNvSpPr/>
          <p:nvPr/>
        </p:nvSpPr>
        <p:spPr>
          <a:xfrm>
            <a:off x="457200" y="2214720"/>
            <a:ext cx="8305920" cy="581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e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457200" y="2717640"/>
            <a:ext cx="8305920" cy="11912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goods s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6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profit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 3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457200" y="4149720"/>
            <a:ext cx="8305920" cy="18003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36560"/>
                <a:tab algn="r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vertical analysis of the income statement for Lee Corporation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st of goods so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uld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5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oss prof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uld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4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Group 5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62" name="Rectangle 6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114800" cy="1523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762120"/>
            <a:ext cx="8305920" cy="9421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items are reported on a company’s balance she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4267080"/>
          <a:ext cx="8229600" cy="2133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rent ratio, 2.0; Quick ratio, 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rent ratio, 2.0; Quick ratio, 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rent ratio, 1.5; Quick ratio, 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rent ratio, 1.5; Quick ratio, 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70" name="Group 17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71" name="Rectangle 18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9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0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21"/>
          <p:cNvSpPr/>
          <p:nvPr/>
        </p:nvSpPr>
        <p:spPr>
          <a:xfrm>
            <a:off x="457200" y="1727280"/>
            <a:ext cx="8305920" cy="16185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$3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invest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 (ne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2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payab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457200" y="3495600"/>
            <a:ext cx="8305920" cy="4597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36560"/>
                <a:tab algn="r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(a) the current ratio and (b) the quick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9" name="Group 5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80" name="Rectangle 6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7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114800" cy="33530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 ratio, 2.0; Quick ratio,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 ratio, 2.0; Quick ratio,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 ratio, 1.5; Quick ratio,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 ratio, 1.5; Quick ratio,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457200" y="1011240"/>
            <a:ext cx="8305920" cy="57636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ny reports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1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88" name="Rectangle 12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3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15"/>
          <p:cNvSpPr/>
          <p:nvPr/>
        </p:nvSpPr>
        <p:spPr>
          <a:xfrm>
            <a:off x="457200" y="1711440"/>
            <a:ext cx="8305920" cy="825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sales                                       $96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accounts receivable (n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8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57200" y="3159000"/>
            <a:ext cx="8305920" cy="13737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36560"/>
                <a:tab algn="r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counts receivable turno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.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umber of days’ sales in receiv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.3 d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084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the management of Nike, Inc. use financial analysis to evaluate performance and develop strategies for the compan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TPChart"/>
          <p:cNvGraphicFramePr/>
          <p:nvPr/>
        </p:nvGraphicFramePr>
        <p:xfrm>
          <a:off x="5143680" y="2362320"/>
          <a:ext cx="393984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3680" y="2362320"/>
                    <a:ext cx="393984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 Box 9"/>
          <p:cNvSpPr/>
          <p:nvPr/>
        </p:nvSpPr>
        <p:spPr>
          <a:xfrm>
            <a:off x="457200" y="720720"/>
            <a:ext cx="8305920" cy="3632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pany reports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457200" y="1025640"/>
            <a:ext cx="8305920" cy="6426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sales                                       $96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accounts receivable (ne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457200" y="1635120"/>
            <a:ext cx="8305920" cy="6426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36560"/>
                <a:tab algn="r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s receivable turno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umber of days’ sales in receiv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.3 da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2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200" name="Rectangle 13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4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5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4114800" cy="15242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hange in the stock price for Nike, Inc. easily explained with financial analysis of the company financial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you perform financial analysis for a company only if you are deciding to invest in the comp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centage analysis of the relationship of each component in a financial statement to a total within the statement is called vertical an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ility of a business to meet its financial obligations (debts) is called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ck assets are cash and all other fixed ass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ability analysis focuses on the relationship between operating results and the resources available to a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00:26:10Z</dcterms:created>
  <dc:creator> </dc:creator>
  <dc:description/>
  <dc:language>en-US</dc:language>
  <cp:lastModifiedBy>Leslie</cp:lastModifiedBy>
  <dcterms:modified xsi:type="dcterms:W3CDTF">2008-12-30T03:25:26Z</dcterms:modified>
  <cp:revision>35</cp:revision>
  <dc:subject/>
  <dc:title>In looking for the success of Williams-Sonoma, Inc., should you just look at the net income on the income statement?</dc:title>
</cp:coreProperties>
</file>