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4050-3E87-4758-8134-E82EB7EB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3807-FE9F-4F2C-9B7E-E17F5680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5BD-27DB-4DBC-8E63-52B5884E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A84D-6B0A-438A-95D0-5ABD02BC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1853-7EF3-4062-821A-29E92A9E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C221-7341-466E-BF86-55022EE5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390-4121-4FDB-A001-4E2A205E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A60F-70A6-4469-8325-96F094AA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5F1A-DDE5-4542-965D-CDA73062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E8A-F741-487F-ADC4-3A5CC8B8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7C88-55C9-422E-AFF2-CE573651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EE3F-3BBC-431B-8B03-8C8CA2DD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4779-6E9D-4A59-86AD-F52FE2906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eparation of the purchase function and the payment function for Panera Bread an issue of internal contr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roll taxes become a liability to the employer when the payroll is pai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ny’s financial statement does not need to fully disclose the nature of its postretirement benefits oblig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contingent liability is probable and the amount of the liability can be reasonably estimated, it is recorded and disclo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is a current liabi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1148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s Recei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3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ournal entry to record the payment of an interest-bearing note at its maturity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734000" y="1676520"/>
          <a:ext cx="434664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4000" y="1676520"/>
                    <a:ext cx="434664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77520"/>
            <a:ext cx="42670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s to Interest Expense and Cash and a credit to Notes Pay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s to Notes Payable and Interest Expense and a credit to Notes Pay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bit to Notes Payable and a credit to 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bit to Cash and credits to Notes Payable and Interest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not an employer payroll tax exp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95480"/>
            <a:ext cx="411480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unemployment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unemployment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income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ecurity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lticolumn report used for summarizing the data for each payroll period is called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’s earnings re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roll bank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roll reg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sh payment controls for payroll include all of the following exce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1480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ing blank checks in an unlocked and unsupervised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ing and approving all payroll rat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fully controlled access to the check printing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a special payroll bank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is not considered a fringe benefit for an employe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8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sion p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income taxes withh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ayroll tax that is paid by both the employer and the employee is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41148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unemployment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CA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unemployment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unemployment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ll companies such as Panera Bread purchase supplies for manufacturing or resale on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ournal entry to record the payroll for a period will include a credit to Salaries (Wages) Payable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25720"/>
            <a:ext cx="41148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e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earnings less all payroll de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earnings less taxes pay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earnings less voluntary dedu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96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nsion plan where the company invests contributions on behalf of the employee during the employee’s working years is called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26800"/>
            <a:ext cx="41148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benefi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1k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contribu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iteria to not disclose or record a contingent liability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25360"/>
            <a:ext cx="411480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le and not estim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ably possible and estim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ably possible and not estim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857160"/>
            <a:ext cx="8305920" cy="17953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July 1, Bella Salon Company issued a 60-day note with a face amount of $60,000 to Delilah Hair Products Company for merchandise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0" y="0"/>
            <a:ext cx="4419360" cy="457200"/>
            <a:chOff x="0" y="0"/>
            <a:chExt cx="4419360" cy="457200"/>
          </a:xfrm>
        </p:grpSpPr>
        <p:sp>
          <p:nvSpPr>
            <p:cNvPr id="132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7"/>
            <p:cNvSpPr/>
            <p:nvPr/>
          </p:nvSpPr>
          <p:spPr>
            <a:xfrm>
              <a:off x="549720" y="0"/>
              <a:ext cx="3588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xample Exercise 10-1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8"/>
          <p:cNvSpPr/>
          <p:nvPr/>
        </p:nvSpPr>
        <p:spPr>
          <a:xfrm>
            <a:off x="457200" y="3006720"/>
            <a:ext cx="8305920" cy="13737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eds of the note, assuming the note carries an interest rate of 6%,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$60,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8082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" name="Group 5"/>
          <p:cNvGrpSpPr/>
          <p:nvPr/>
        </p:nvGrpSpPr>
        <p:grpSpPr>
          <a:xfrm>
            <a:off x="0" y="0"/>
            <a:ext cx="4419360" cy="457200"/>
            <a:chOff x="0" y="0"/>
            <a:chExt cx="4419360" cy="457200"/>
          </a:xfrm>
        </p:grpSpPr>
        <p:sp>
          <p:nvSpPr>
            <p:cNvPr id="140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8"/>
            <p:cNvSpPr/>
            <p:nvPr/>
          </p:nvSpPr>
          <p:spPr>
            <a:xfrm>
              <a:off x="549720" y="0"/>
              <a:ext cx="3588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xample Exercise 10-1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55400"/>
            <a:ext cx="4114800" cy="16304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57200" y="857160"/>
            <a:ext cx="8305920" cy="17953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July 1, Bella Salon Company issued a 60-day note with a face amount of $60,000 to Delilah Hair Products Company for merchandise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0" y="0"/>
            <a:ext cx="4419360" cy="457200"/>
            <a:chOff x="0" y="0"/>
            <a:chExt cx="4419360" cy="457200"/>
          </a:xfrm>
        </p:grpSpPr>
        <p:sp>
          <p:nvSpPr>
            <p:cNvPr id="147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549720" y="0"/>
              <a:ext cx="3588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xample Exercise 10-1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8"/>
          <p:cNvSpPr/>
          <p:nvPr/>
        </p:nvSpPr>
        <p:spPr>
          <a:xfrm>
            <a:off x="457200" y="3006720"/>
            <a:ext cx="8305920" cy="13737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74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eds of the note, assuming the note is discounted at 6%,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$60,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Group 5"/>
          <p:cNvGrpSpPr/>
          <p:nvPr/>
        </p:nvGrpSpPr>
        <p:grpSpPr>
          <a:xfrm>
            <a:off x="0" y="0"/>
            <a:ext cx="4419360" cy="457200"/>
            <a:chOff x="0" y="0"/>
            <a:chExt cx="4419360" cy="457200"/>
          </a:xfrm>
        </p:grpSpPr>
        <p:sp>
          <p:nvSpPr>
            <p:cNvPr id="155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"/>
            <p:cNvSpPr/>
            <p:nvPr/>
          </p:nvSpPr>
          <p:spPr>
            <a:xfrm>
              <a:off x="549720" y="0"/>
              <a:ext cx="3588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xample Exercise 10-1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4114800" cy="17524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755640"/>
            <a:ext cx="8305920" cy="30751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en Dunn’s weekly gross earnings for the week ending December 3 were $2,250, and her federal income tax withholding was $466.19. Prior to this week, Dunn had earned $98,000 for the year. Assuming the social security rate is 6% on the first $100,000 of annual earnings and Medicare is 1.5% of all earnings, what is Dunn’s net p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4114800"/>
          <a:ext cx="8229600" cy="2133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30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83.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50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63" name="Group 17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64" name="Rectangle 18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9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0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0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1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0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4114800" cy="25146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2,2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,630.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,783.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,750.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457200" y="870120"/>
            <a:ext cx="8305920" cy="45770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k-Rite Inc. sold $140,000 of kitchen appliances during August under a six-month warranty. The cost to repair defects under the warranty is estimated at 6% of the sales price. On September 11, a customer required a $200 part replacement, plus $90 of labor under the warran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lance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Product Warranty Payable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ter (a) the estimate and (b) the September replacement was $8,1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8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0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think companies that extend credit consider the risk of nonpay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8082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4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85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0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4114800" cy="16765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the terms of “short-term credit” vary by compan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12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all companies have the same types of current liabilities like Panera Brea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liabilities are obligations that will be paid out of current assets and are due within a short time, usually within one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earnings of an employee for a payroll period less employer payroll tax expenses is called net p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controls should be in place for processing and paying a company’s pay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internal control feature is to not have a special payroll acc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8:20:57Z</dcterms:created>
  <dc:creator> </dc:creator>
  <dc:description/>
  <dc:language>en-US</dc:language>
  <cp:lastModifiedBy>Leslie</cp:lastModifiedBy>
  <dcterms:modified xsi:type="dcterms:W3CDTF">2008-12-30T03:07:27Z</dcterms:modified>
  <cp:revision>29</cp:revision>
  <dc:subject/>
  <dc:title>Is the separation of the duties of the purchase function and the payment function for Panera Bread an issue of internal control?</dc:title>
</cp:coreProperties>
</file>