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831-6E46-4F4F-9E8C-B6ADABAD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E5B-6B35-4D47-B3D9-3AF4BFC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339-D2E5-4136-9749-9A20D07A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D28-F016-452B-867D-6A173D50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2F3-678F-41A9-A06C-97ACC495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4C0-BCF4-47BF-BCE5-DF426734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258-7A4F-4361-9A47-84C1DBE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7FE-C7F7-49AD-A296-9151322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543-AF23-40EE-B224-131A075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A9E-31B3-41AE-9FB0-EEAF501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466-21BD-42DB-A34C-37853DB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E68-A38D-47D7-A3DB-1BD70EE9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52FA-2DE1-4A07-9B8B-D73183C19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n acceptable practice for companies such as Under Armour to use debt to help achieve their object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usually redeems its bonds at a price equal to that of the carrying amount (book val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other assets, the cost of a bond investment includes all costs incurred to purchase the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is legally obligated to pay both interest on debt and dividends on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that may be exchanged for other securities, such as common stock,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a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tur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ompany issues bonds, the proceeds received for the bonds depend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e amount of the bonds, which is due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est on th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market rate of interest is greater than the contract rate of interest, a bond will s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512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fa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undetermined amount since not enough information i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ries of equal cash payments at fixed intervals is called a(n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turity date of bonds, the Bonds Payable accoun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41148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face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difference between the face value and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ited for the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ethods for amortizing a bond discount a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41148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ght-line method and complex interest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ght-line method and effective interest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interest method and declining-balanc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ining-balance method and straight-lin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installment note is issued, an entry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76120"/>
            <a:ext cx="44197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Notes Payabl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Interest Expens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Account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ng-term debt and short-term debt used for different purp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that provide for only payment of the face value at maturity date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a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tur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rrying amount of bonds payable is equal 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5105520" y="2228760"/>
          <a:ext cx="38862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28760"/>
                    <a:ext cx="38862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06120"/>
            <a:ext cx="44956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plus any unamortized discount or less any unamortized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less any unamortized discount or plus any unamortized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plus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less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2524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nds Payable account is re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as a current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as a current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as a long-term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as a long-term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1" name="Rectangle 11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4"/>
          <p:cNvSpPr/>
          <p:nvPr/>
        </p:nvSpPr>
        <p:spPr>
          <a:xfrm>
            <a:off x="457200" y="1085760"/>
            <a:ext cx="8305920" cy="4730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 ($1,00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), receiving cash of $936,4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issuance of the bonds includes a debit to Discount on Bonds Payable for $63,58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22096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, receiving cash of $936,420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al entry to record the issuance of the bonds includes a debit to Discount on Bonds Payable for $63,580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5334120" y="266688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Group 6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9" name="Rectangle 7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4114800" cy="14479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68904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 ($1,000,0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½), receiving cash of $936,420. How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est exp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cognized on the first interest pay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6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457200" y="3581280"/>
          <a:ext cx="8305920" cy="21430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6,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5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84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4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6,3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6,3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1" name="Rectangle 11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4"/>
          <p:cNvSpPr/>
          <p:nvPr/>
        </p:nvSpPr>
        <p:spPr>
          <a:xfrm>
            <a:off x="457200" y="762120"/>
            <a:ext cx="8305920" cy="3267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 issues a $2,000,000, 12%, five-year bond that pays semiannual interest of $120,000 ($2,00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2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), receiving cash of $2,154,4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 bond sell at a discount or a prem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PAnswers"/>
          <p:cNvSpPr/>
          <p:nvPr/>
        </p:nvSpPr>
        <p:spPr>
          <a:xfrm>
            <a:off x="457200" y="4419720"/>
            <a:ext cx="4114800" cy="1447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 issues a $2,000,000, 12%, five-year bond that pays semiannual interest of $120,000 ($2,000,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), receiving cash of $2,154,4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bond sell at a discount or a prem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940280" y="2133720"/>
          <a:ext cx="4199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2133720"/>
                    <a:ext cx="4199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0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4114800" cy="14479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point at which companies such as Under Armour could incur too much deb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only large companies such as Under Armour monitor and manage the debt of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set time frame for classifying debt as long-term in n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s finance their operations using debt and equ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bond sells at an amount less than its face value, it will sell at a prem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cept of present value is based on the time value of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holder claims on the corporation’s assets rank ahead of stockhol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2:36:45Z</dcterms:created>
  <dc:creator> </dc:creator>
  <dc:description/>
  <dc:language>en-US</dc:language>
  <cp:lastModifiedBy>Leslie</cp:lastModifiedBy>
  <dcterms:modified xsi:type="dcterms:W3CDTF">2008-12-30T03:11:22Z</dcterms:modified>
  <cp:revision>41</cp:revision>
  <dc:subject/>
  <dc:title>Is there a uniform acceptable amount for debt for large companies such as Under Armour?</dc:title>
</cp:coreProperties>
</file>