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295-AC76-4698-A9AC-E7E81B53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42F-F31A-4952-89D4-4DF5FF32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013-2633-491E-9192-DB7BA2A8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228-972A-4BE1-965C-170A6030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C86-060C-4279-8F6D-155DEA52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5B7-B624-4FDD-9D06-32B8CFEE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AEA-860F-4F27-9843-4B8E3775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19F-DA21-43A2-85FB-7A08684C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BB9-F0C6-427D-984B-F0E09CC3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E73-BE84-44DA-96FC-353478B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C53-780A-44C5-981A-59A8253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848-D390-4553-96EA-6CFAFF0A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9E3-13C5-49C9-A636-48845891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companies such as News Corporation expect some sort of return on their invest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poration owning all or a majority of the voting stock of another corporation is called a parent compan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ecurities are debt investments that a company intends to hold until their maturity 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419720" y="1905120"/>
          <a:ext cx="463536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905120"/>
                    <a:ext cx="463536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rrent trend for the Financial Accounting Standards Board (FASB) is to adopt accounting principles using fair values for valuing and reporting assets and li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737240" y="2006640"/>
          <a:ext cx="425448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7240" y="2006640"/>
                    <a:ext cx="425448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226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would not be a strategic purpose for long-term invest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01440"/>
            <a:ext cx="41148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of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urchase of bonds as an investment is record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ing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ing Bond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ing Invest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ing Bond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investor purchases less than 20% of outstanding stock of the investee, the investment is accounted for using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84600" y="1841400"/>
          <a:ext cx="440712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1841400"/>
                    <a:ext cx="4407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523600"/>
            <a:ext cx="41148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fair value of the portfolio of trading securities are recognize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income or expense for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inary gain or loss for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traordinary gain or loss for the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realized gain or loss for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equity method, how do net income and dividends affect the investment accou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41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crea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decrea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 increases it and dividends decreas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 decreases it and dividends increa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lance in Unrealized Gain (Loss) on Available-for-Sale Securities is repo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648320" y="1828800"/>
          <a:ext cx="44067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828800"/>
                    <a:ext cx="44067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49568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in expen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in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in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in stock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not a disadvantage of moving to fair value accoun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5720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rrently generally accepted accounting principles are a hybrid of varying measurement methods which confli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r values may not be readily obtainable for some assets or liabiliti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r values make it more difficult to companies if they use different methods of determining fair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ing fair values will result in more fluctuations in accounting reports because fair values change from year to 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large companies invest in other companies’ debt and securities for the same reas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valued at amortized c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648320" y="1968480"/>
          <a:ext cx="420984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68480"/>
                    <a:ext cx="420984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3434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-for-sale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-to-maturity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 choices as all are valued at fai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ies that are purchased and sold to earn short-term profits from changes in their market price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813200" y="2095560"/>
          <a:ext cx="417852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3200" y="2095560"/>
                    <a:ext cx="417852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-for-sale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able secu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inancial statements of the parent company and subsidiary are combined and reported as a single company, they ar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762120"/>
            <a:ext cx="8381880" cy="37767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Company had the following bond investment trans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d for cash $40,000 of Tyler Company 10% bonds at 100 plus accrued interest of $3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the first semiannual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 $30,000 of the bonds at 102 plus accrued interest of $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y to record the purchase would includ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4724280"/>
          <a:ext cx="7924680" cy="19083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 of $40,320 to Ca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 of $320 to Interest Receiv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 of $320 to Interest Reven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 of $40,000 to Invest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4800240" cy="458640"/>
            <a:chOff x="0" y="0"/>
            <a:chExt cx="4800240" cy="45864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4647600" cy="45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4523400" y="3960"/>
              <a:ext cx="276840" cy="45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96880" y="0"/>
              <a:ext cx="3897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3-1 (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Group 5"/>
          <p:cNvGrpSpPr/>
          <p:nvPr/>
        </p:nvGrpSpPr>
        <p:grpSpPr>
          <a:xfrm>
            <a:off x="0" y="0"/>
            <a:ext cx="4800240" cy="458640"/>
            <a:chOff x="0" y="0"/>
            <a:chExt cx="4800240" cy="458640"/>
          </a:xfrm>
        </p:grpSpPr>
        <p:sp>
          <p:nvSpPr>
            <p:cNvPr id="141" name="Rectangle 6"/>
            <p:cNvSpPr/>
            <p:nvPr/>
          </p:nvSpPr>
          <p:spPr>
            <a:xfrm>
              <a:off x="0" y="0"/>
              <a:ext cx="4647600" cy="45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523400" y="3960"/>
              <a:ext cx="276840" cy="45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96880" y="0"/>
              <a:ext cx="3897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3-1 (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3886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 of $40,320 to C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 of $320 to Interest Recei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of $320 to Interes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of $40,000 to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914400"/>
            <a:ext cx="8305560" cy="4698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Company had the following bond investment trans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d for cash $40,000 of Tyler Company 10% bonds at 100 plus accrued interest of $3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the first semiannual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 $30,000 of the bonds at 102 plus accrued interest of $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ale of the bonds would include a debit to Loss on Investments of $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0" y="0"/>
            <a:ext cx="4876560" cy="459720"/>
            <a:chOff x="0" y="0"/>
            <a:chExt cx="4876560" cy="459720"/>
          </a:xfrm>
        </p:grpSpPr>
        <p:sp>
          <p:nvSpPr>
            <p:cNvPr id="149" name="Rectangle 12"/>
            <p:cNvSpPr/>
            <p:nvPr/>
          </p:nvSpPr>
          <p:spPr>
            <a:xfrm>
              <a:off x="0" y="0"/>
              <a:ext cx="47214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4595400" y="3960"/>
              <a:ext cx="28116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4"/>
            <p:cNvSpPr/>
            <p:nvPr/>
          </p:nvSpPr>
          <p:spPr>
            <a:xfrm>
              <a:off x="606600" y="0"/>
              <a:ext cx="39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1 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23619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57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ler Company had the following bond investment transac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urchased for cash $40,000 of Tyler Company 10% bonds at 100 plus accrued interest of $32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ceived the first semiannual intere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old $30,000 of the bonds at 102 plus accrued interest of $11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ale of the bonds would include a debit to Loss on Investments of $6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TPChart"/>
          <p:cNvGraphicFramePr/>
          <p:nvPr/>
        </p:nvGraphicFramePr>
        <p:xfrm>
          <a:off x="5181480" y="2851200"/>
          <a:ext cx="38102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51200"/>
                    <a:ext cx="38102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5"/>
          <p:cNvGrpSpPr/>
          <p:nvPr/>
        </p:nvGrpSpPr>
        <p:grpSpPr>
          <a:xfrm>
            <a:off x="0" y="-4680"/>
            <a:ext cx="4800240" cy="459720"/>
            <a:chOff x="0" y="-4680"/>
            <a:chExt cx="4800240" cy="459720"/>
          </a:xfrm>
        </p:grpSpPr>
        <p:sp>
          <p:nvSpPr>
            <p:cNvPr id="156" name="Rectangle 6"/>
            <p:cNvSpPr/>
            <p:nvPr/>
          </p:nvSpPr>
          <p:spPr>
            <a:xfrm>
              <a:off x="0" y="-4680"/>
              <a:ext cx="449244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>
              <a:off x="4372560" y="-360"/>
              <a:ext cx="2674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77080" y="-4680"/>
              <a:ext cx="422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1 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4114800" cy="1676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787320"/>
            <a:ext cx="8305920" cy="26492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eptember 1, 1,500 shares of Monroe Company are acquired at a price of $24 per share plus a $40 brokerage fee. On October 14, a $0.60 per share dividend was received on the Monroe Company stock. On November 11, 750 shares (half) of Monroe Company were sold for $20 per share, less a $45 brokerage fee. The entry to record the purchase of the shares inclu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3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457200" y="4038480"/>
          <a:ext cx="8229600" cy="214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bit to Cash for $36,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redit to Cash for $3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bit to Investments for $3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bit to Investments for $36,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TPChart"/>
          <p:cNvGraphicFramePr/>
          <p:nvPr/>
        </p:nvGraphicFramePr>
        <p:xfrm>
          <a:off x="4952880" y="1905120"/>
          <a:ext cx="41482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905120"/>
                    <a:ext cx="41482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9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1" name="Rectangle 10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267440" cy="46479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bit to Cash for $36,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redit to Cash for $3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bit to Investments for $3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bit to Investments for  $36,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1114560"/>
            <a:ext cx="8305920" cy="37238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anuary 2, Olson Company acquired 35% of the outstanding stock of Bryant Company for $140,000. For the year ending December 31, Bryant Company earned income of $44,000 and paid dividends of $20,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lson would adjust its investment in Bryant Company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4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der the equity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8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companies such as News Corporation purchase investments for strategic reas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922400"/>
          <a:ext cx="4406760" cy="48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22400"/>
                    <a:ext cx="440676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4800600" y="2394000"/>
          <a:ext cx="419112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94000"/>
                    <a:ext cx="419112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9"/>
          <p:cNvSpPr/>
          <p:nvPr/>
        </p:nvSpPr>
        <p:spPr>
          <a:xfrm>
            <a:off x="457200" y="609480"/>
            <a:ext cx="8305920" cy="1613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January 2, Olson Company acquired 35% of the outstanding stock of Bryant Company for $140,000. For the year ending December 31, Bryant Company earned income of $44,000 and paid dividends of $20,000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son would adjust its investment in Bryant Company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64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the equity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1676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18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only large companies purchase debt and security invest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177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668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there special rules for recording and reporting investments made by compan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917720"/>
          <a:ext cx="448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17720"/>
                    <a:ext cx="448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securities include notes, bonds, and common stock issued by corpo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objective of investing cash in temporary investments is to earn interest revenue, receive dividends, or realize gains from increases in the market price of the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917720"/>
          <a:ext cx="448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17720"/>
                    <a:ext cx="448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8749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le of a bond investment normally results in a gain or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investor purchases less than 20% of the outstanding stock of an investee, the investor is considered to have control over the inves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841400"/>
          <a:ext cx="44067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41400"/>
                    <a:ext cx="44067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40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21:19:54Z</dcterms:created>
  <dc:creator> </dc:creator>
  <dc:description/>
  <dc:language>en-US</dc:language>
  <cp:lastModifiedBy>Leslie</cp:lastModifiedBy>
  <dcterms:modified xsi:type="dcterms:W3CDTF">2008-12-30T03:25:10Z</dcterms:modified>
  <cp:revision>52</cp:revision>
  <dc:subject/>
  <dc:title>Are the unusual and nonrecurring items reported for Gaylord Entertainment Co. easily detected on its income statement?</dc:title>
</cp:coreProperties>
</file>