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BDDF-104F-467C-942B-2087FB63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699B-72B7-437F-82F8-231217AA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7EFC-4E06-4A2E-BB2C-176E62C4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A2F3-D581-41DF-A29D-83D59753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524D-D02D-4A2A-867E-267CE033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401E-2810-4F54-BDC6-F1F0A41E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03A6-71CB-48E2-B693-10EFDCD8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2861-7953-4196-B8AF-ABF816AF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24B4-56F9-4FF5-9803-A52D5B53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81D9-34F3-4A75-ACA7-2CA7703F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A07F-7B53-4E04-B413-8E5EABB1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B973-9A13-4B31-9C02-8BBA245D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69A5-2355-4497-B766-2C067BCE7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ll corporations such as Hasbro sell ownership interests in the company in the form of shares of sto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64636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TPChart"/>
          <p:cNvGraphicFramePr/>
          <p:nvPr/>
        </p:nvGraphicFramePr>
        <p:xfrm>
          <a:off x="4508640" y="2008080"/>
          <a:ext cx="4483080" cy="47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008080"/>
                    <a:ext cx="4483080" cy="47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20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ommon stock is issued at a premium, the excess of the amount paid over par is credited to the paid-in capital in excess of par value acc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TPChart"/>
          <p:cNvGraphicFramePr/>
          <p:nvPr/>
        </p:nvGraphicFramePr>
        <p:xfrm>
          <a:off x="4572000" y="2165400"/>
          <a:ext cx="4419720" cy="469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65400"/>
                    <a:ext cx="441972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financial loss that a stockholder may suffer is limited to the amount investe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ior period adjustment should not be reported on retained earnings statement for the current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08640" y="1905120"/>
          <a:ext cx="448308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05120"/>
                    <a:ext cx="448308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696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is considered a  characteristic of a corpor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96560"/>
            <a:ext cx="41148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liability of its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l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ransferable units of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axable 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a disadvantage of the corporate form of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25720"/>
            <a:ext cx="411480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liability of ow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legal 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 large amounts of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taxation of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ch one of the following is not an ownership right of a stockholder in a corpor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11480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are in assets on liqu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lare dividends on the common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are in distributions of e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vote in matters concerning th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no-par common stock is issued, the journal entry will include a credi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96560"/>
            <a:ext cx="41148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ained Ear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d-in Capital Commo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not an important date with respect to divide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11320"/>
            <a:ext cx="4114800" cy="23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ion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ment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corporation to pay a cash dividend, it must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25360"/>
            <a:ext cx="4114800" cy="29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 retained e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action by the board of dir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only used method of accounting for the purchase and resale of treasury stock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 valu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d valu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 market valu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960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a person always analyze the financial statements of the company before purchasing a company’s stock as an invest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TPChart"/>
          <p:cNvGraphicFramePr/>
          <p:nvPr/>
        </p:nvGraphicFramePr>
        <p:xfrm>
          <a:off x="4572000" y="160020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60020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would not be a classification for Restrictions to Retained Earn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TPChart"/>
          <p:cNvGraphicFramePr/>
          <p:nvPr/>
        </p:nvGraphicFramePr>
        <p:xfrm>
          <a:off x="4508640" y="2209680"/>
          <a:ext cx="4483080" cy="458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209680"/>
                    <a:ext cx="4483080" cy="458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671920"/>
            <a:ext cx="41148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1276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items increases Retained Earning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10960"/>
            <a:ext cx="41148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divid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 divid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8908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ormal journal entry is not required for which of the follow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divid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 divid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 spl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ance of common stock at par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660240"/>
            <a:ext cx="8305920" cy="207720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March 6, Limerick Corporation issued for cash 15,000 shares of no-par common stock at $30. On April 13, Limerick issued at par 1,000 shares of 4%, $40 par preferred stock for cash. On May 19, Limerick issued for cash 15,000 shares of 4%, $40 par preferred stock at $4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urnalize the entry to record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32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7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1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5" name=""/>
          <p:cNvGraphicFramePr/>
          <p:nvPr/>
        </p:nvGraphicFramePr>
        <p:xfrm>
          <a:off x="457200" y="2971800"/>
          <a:ext cx="8305920" cy="3772080"/>
        </p:xfrm>
        <a:graphic>
          <a:graphicData uri="http://schemas.openxmlformats.org/drawingml/2006/table">
            <a:tbl>
              <a:tblPr/>
              <a:tblGrid>
                <a:gridCol w="3657600"/>
                <a:gridCol w="2286000"/>
                <a:gridCol w="23623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ferred St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ferred St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id-In Capital in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Excess of P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ferred St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ferred St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TPChart"/>
          <p:cNvGraphicFramePr/>
          <p:nvPr/>
        </p:nvGraphicFramePr>
        <p:xfrm>
          <a:off x="4876920" y="1714680"/>
          <a:ext cx="426708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714680"/>
                    <a:ext cx="426708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9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40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1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3" name=""/>
          <p:cNvGraphicFramePr/>
          <p:nvPr/>
        </p:nvGraphicFramePr>
        <p:xfrm>
          <a:off x="228600" y="2249640"/>
          <a:ext cx="4876920" cy="2746080"/>
        </p:xfrm>
        <a:graphic>
          <a:graphicData uri="http://schemas.openxmlformats.org/drawingml/2006/table">
            <a:tbl>
              <a:tblPr/>
              <a:tblGrid>
                <a:gridCol w="2590920"/>
                <a:gridCol w="1218960"/>
                <a:gridCol w="10670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ferred St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ferred St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id-In Capital i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cess of P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ferred St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ferred St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457200" y="609480"/>
            <a:ext cx="8305920" cy="207720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nna Highlights Corporation has 150,000 shares of $100 par common stock outstanding. On June 14, Vienna Highlights declared a 4% stock dividend to be issued August 15 to stockholders of record on July 1. The market price of the stock was $110 a share on June 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urnalize the entry to record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 1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47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7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1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0" name=""/>
          <p:cNvGraphicFramePr/>
          <p:nvPr/>
        </p:nvGraphicFramePr>
        <p:xfrm>
          <a:off x="304920" y="2917800"/>
          <a:ext cx="8610480" cy="3406680"/>
        </p:xfrm>
        <a:graphic>
          <a:graphicData uri="http://schemas.openxmlformats.org/drawingml/2006/table">
            <a:tbl>
              <a:tblPr/>
              <a:tblGrid>
                <a:gridCol w="5410080"/>
                <a:gridCol w="1600200"/>
                <a:gridCol w="16002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 Distribu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 Distributable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 Distribu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id-In Capital in Excess of P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id-In Capital in Excess of P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TPChart"/>
          <p:cNvGraphicFramePr/>
          <p:nvPr/>
        </p:nvGraphicFramePr>
        <p:xfrm>
          <a:off x="4978440" y="1752480"/>
          <a:ext cx="41590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78440" y="1752480"/>
                    <a:ext cx="41590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55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1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228600" y="2286000"/>
          <a:ext cx="5105520" cy="3768840"/>
        </p:xfrm>
        <a:graphic>
          <a:graphicData uri="http://schemas.openxmlformats.org/drawingml/2006/table">
            <a:tbl>
              <a:tblPr/>
              <a:tblGrid>
                <a:gridCol w="3206880"/>
                <a:gridCol w="949320"/>
                <a:gridCol w="94932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 Distribu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ributable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ribu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id-In Capital in Exces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P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id-In Capital in Exces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P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57200" y="838080"/>
            <a:ext cx="8305920" cy="49550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following accounts and balances, prepare the Stockholders’ Equity section of the balance sheet. Forty thousand shares of common stock are authorized, and 5,000 shares have been reac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Stock, $50 par                               $1,5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d-In Capital in Excess of Par                        16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d-In Capital from Sale of Treasury Stock       44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ned Earnings                                          4,395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sury Stock                                                  1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 OR FAL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ding balance in stockholders’ equity is $5,979,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1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63" name="Rectangle 12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3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4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1-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0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1-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4114800" cy="1523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457200" y="768240"/>
            <a:ext cx="8305920" cy="8204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y Creek Camera Inc. reported the following results for the year ending March 31, 201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7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1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0" name=""/>
          <p:cNvGraphicFramePr/>
          <p:nvPr/>
        </p:nvGraphicFramePr>
        <p:xfrm>
          <a:off x="457200" y="4343400"/>
          <a:ext cx="8229600" cy="2133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,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,799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,719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,338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sp>
        <p:nvSpPr>
          <p:cNvPr id="181" name="Text Box 20"/>
          <p:cNvSpPr/>
          <p:nvPr/>
        </p:nvSpPr>
        <p:spPr>
          <a:xfrm>
            <a:off x="457200" y="1832040"/>
            <a:ext cx="8305920" cy="22284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r" pos="5772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ned earnings, April 1, 200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,338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772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inc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61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772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dividends decla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772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k dividends decla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772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772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lance i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tained earnin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fiscal year ended March 31, 2010,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generally accepted accounting principles be used in corpor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TPChart"/>
          <p:cNvGraphicFramePr/>
          <p:nvPr/>
        </p:nvGraphicFramePr>
        <p:xfrm>
          <a:off x="4508640" y="163836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3836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5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86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1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114800" cy="25146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3,6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3,799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3,719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3,338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 lot of corporations have unique relationships with other companies to produce and sell licensed produ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difficult to purchase a share of stock in a corporation such as Hasb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t large businesses are organized as corpor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s incurred in organizing a corporation are debited to an expense account entitled Organizational Expen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981080"/>
          <a:ext cx="4483080" cy="481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81080"/>
                    <a:ext cx="4483080" cy="481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64636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step in forming a corporation is to sell shares of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lance of the retained earnings account at the end of the fiscal year includes the proceeds from the sale of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2008080"/>
          <a:ext cx="4483080" cy="47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008080"/>
                    <a:ext cx="4483080" cy="47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64636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9:05:13Z</dcterms:created>
  <dc:creator> </dc:creator>
  <dc:description/>
  <dc:language>en-US</dc:language>
  <cp:lastModifiedBy>Leslie</cp:lastModifiedBy>
  <dcterms:modified xsi:type="dcterms:W3CDTF">2008-12-30T03:09:48Z</dcterms:modified>
  <cp:revision>42</cp:revision>
  <dc:subject/>
  <dc:title>Do all corporations such as Yankee Candle Company, Inc. start as sole proprietorships?</dc:title>
</cp:coreProperties>
</file>