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376-E5B1-41F6-8801-D8F3B82B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58F-D76D-4EA7-A5FD-893AB92E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D55-D50B-495C-90F8-7674A89C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115-BCAC-48EA-93B1-DCD6B540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199-2172-4826-B216-12FFA6FD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6D3-71E0-4431-88F0-8B3FAB1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0F5-31F8-4F9A-9B14-55B9E9F4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48E-B413-4CFE-9E29-FE9C452F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266-82E6-43E7-A0D3-8728CB94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7C9-CCAD-4881-BB70-D2680043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B3B-3732-47D7-ABF1-07D69BE4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985-F729-4D08-B3FB-C0C9655E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EDA1-CB38-4507-87AB-73CD9345C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6400" y="1752480"/>
            <a:ext cx="129528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752480"/>
            <a:ext cx="129528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99360" y="18273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30320" y="182880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52480"/>
            <a:ext cx="1295640" cy="457200"/>
          </a:xfrm>
          <a:prstGeom prst="diamond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07800" y="1816200"/>
            <a:ext cx="6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971440" y="198108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198108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2880" y="1522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5228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1080" y="9763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n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07T01:35:50Z</dcterms:modified>
  <cp:revision>7</cp:revision>
  <dc:subject/>
  <dc:title>No Slide Title</dc:title>
</cp:coreProperties>
</file>