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17C-0643-451A-A138-5F7F7730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AED-4AF0-488E-B449-DC3133A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BD8-260A-4395-881D-BCEF7F50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576-E646-47A1-BE87-778C26E7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367-0A6A-4673-B592-0FE88839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5F1-A385-4390-B374-4D531DFD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9F8-7951-4D4A-B005-B029B689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6DB-A872-4016-8BA2-C1A71FD6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CD5-DD0F-41C0-820F-862E67B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9E0-9481-4D66-AA43-10A48F9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924-0E2B-4B60-8E47-B5D8CB4F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D23-8865-426A-820F-65A47FF9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F62-DCDD-462C-A707-3C083B62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743200"/>
            <a:ext cx="129564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274320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360" y="2817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24480" y="8380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91800" y="280656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819160" y="2971800"/>
            <a:ext cx="60948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971800"/>
            <a:ext cx="60984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4760" y="2525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15160" y="2525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46720" y="1739880"/>
            <a:ext cx="128268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762120"/>
            <a:ext cx="1295280" cy="457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8560" y="281952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87200" y="180324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plo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20120" y="5716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6800" y="256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81760" y="2209680"/>
            <a:ext cx="0" cy="53352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981760" y="1218960"/>
            <a:ext cx="0" cy="53316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960" y="1130400"/>
            <a:ext cx="445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ember that a  1:M relationship is always read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“1” side to the “M” side. Therefore, the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tween  FACTORY  and REGION is properly read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tory employs employe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743200"/>
            <a:ext cx="1282680" cy="457200"/>
          </a:xfrm>
          <a:prstGeom prst="flowChartDecision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21:38Z</dcterms:created>
  <dc:creator>Peter Rob</dc:creator>
  <dc:description/>
  <dc:language>en-US</dc:language>
  <cp:lastModifiedBy>Peter Rob</cp:lastModifiedBy>
  <dcterms:modified xsi:type="dcterms:W3CDTF">2003-10-02T01:27:53Z</dcterms:modified>
  <cp:revision>9</cp:revision>
  <dc:subject/>
  <dc:title>No Slide Title</dc:title>
</cp:coreProperties>
</file>