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3FF-F924-44CF-931F-CE871F3E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ADD-C086-44DB-A4D9-0F9C944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39E-101E-400F-AD22-359413FE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A99-DB0D-46E4-AFBE-E498A373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6DE-F90C-47A7-B129-3D2608BC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CAD-1F84-403E-BEF3-BA6B3BF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2B9-011B-4046-AA10-7A574819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D25-AEE9-42FC-899F-7414961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69D-FF7B-4210-A2DB-277B6293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4A0-CF38-4A67-A711-6668A52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352-5A05-4CC6-831D-50EF38C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32E-CD27-41C9-95BE-298446C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3D6E-192E-4E1D-873A-E8295DAF8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720" y="914400"/>
            <a:ext cx="13464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44720" y="2895480"/>
            <a:ext cx="134640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8400" y="990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45920" y="19684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5760" y="3124080"/>
            <a:ext cx="121896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97560" y="297180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39880" y="1968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5760" y="1143000"/>
            <a:ext cx="121896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603520" y="3009960"/>
            <a:ext cx="228600" cy="228600"/>
            <a:chOff x="2603520" y="3009960"/>
            <a:chExt cx="228600" cy="228600"/>
          </a:xfrm>
        </p:grpSpPr>
        <p:grpSp>
          <p:nvGrpSpPr>
            <p:cNvPr id="50" name=""/>
            <p:cNvGrpSpPr/>
            <p:nvPr/>
          </p:nvGrpSpPr>
          <p:grpSpPr>
            <a:xfrm>
              <a:off x="2603520" y="3009960"/>
              <a:ext cx="228600" cy="228600"/>
              <a:chOff x="2603520" y="3009960"/>
              <a:chExt cx="228600" cy="228600"/>
            </a:xfrm>
          </p:grpSpPr>
          <p:sp>
            <p:nvSpPr>
              <p:cNvPr id="51" name=""/>
              <p:cNvSpPr/>
              <p:nvPr/>
            </p:nvSpPr>
            <p:spPr>
              <a:xfrm>
                <a:off x="2603520" y="31240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03520" y="31244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603520" y="30099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603520" y="30099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03440" y="1473120"/>
            <a:ext cx="228600" cy="75960"/>
            <a:chOff x="3403440" y="1473120"/>
            <a:chExt cx="228600" cy="75960"/>
          </a:xfrm>
        </p:grpSpPr>
        <p:sp>
          <p:nvSpPr>
            <p:cNvPr id="56" name=""/>
            <p:cNvSpPr/>
            <p:nvPr/>
          </p:nvSpPr>
          <p:spPr>
            <a:xfrm>
              <a:off x="3403440" y="147312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03440" y="154908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66880" y="1028880"/>
            <a:ext cx="76320" cy="228600"/>
            <a:chOff x="2666880" y="1028880"/>
            <a:chExt cx="76320" cy="228600"/>
          </a:xfrm>
        </p:grpSpPr>
        <p:sp>
          <p:nvSpPr>
            <p:cNvPr id="59" name=""/>
            <p:cNvSpPr/>
            <p:nvPr/>
          </p:nvSpPr>
          <p:spPr>
            <a:xfrm>
              <a:off x="2666880" y="1028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1028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03440" y="2717640"/>
            <a:ext cx="228600" cy="75960"/>
            <a:chOff x="3403440" y="2717640"/>
            <a:chExt cx="228600" cy="75960"/>
          </a:xfrm>
        </p:grpSpPr>
        <p:sp>
          <p:nvSpPr>
            <p:cNvPr id="62" name=""/>
            <p:cNvSpPr/>
            <p:nvPr/>
          </p:nvSpPr>
          <p:spPr>
            <a:xfrm>
              <a:off x="3403440" y="27176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03440" y="279360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V="1">
            <a:off x="1638360" y="1142640"/>
            <a:ext cx="0" cy="1981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24400" y="1371600"/>
            <a:ext cx="0" cy="15238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20:06:41Z</dcterms:modified>
  <cp:revision>11</cp:revision>
  <dc:subject/>
  <dc:title>No Slide Title</dc:title>
</cp:coreProperties>
</file>