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1B3-8323-470F-B818-B0EE5503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DEE-038B-4F15-9DF9-04EBE878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F7A-29E7-46BF-B4EB-560C394C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BC1-2B1D-4DEE-B302-BBD38B54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EC8-E66E-44A2-9047-7831EE90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81E-FEDD-4A75-AB73-44CE554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098-236A-444B-8C46-8BCED9D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2C9-794F-47C2-BF6C-9F42E98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3FE-D5D6-4ADA-AEC0-971D12DF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3EC-EBD5-4793-AE2F-B5426EF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275-1E2C-476C-8D13-39CB915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BFA-04EA-4190-BCBD-3CFBCFBF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55B3-B37F-4D65-880C-AF18DD3F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7440" y="2732040"/>
            <a:ext cx="137160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2743200"/>
            <a:ext cx="137160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1200" y="280656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45880" y="26924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18680" y="28195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1752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2971800"/>
            <a:ext cx="10666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57800" y="2857680"/>
            <a:ext cx="228600" cy="228600"/>
            <a:chOff x="5257800" y="2857680"/>
            <a:chExt cx="228600" cy="228600"/>
          </a:xfrm>
        </p:grpSpPr>
        <p:grpSp>
          <p:nvGrpSpPr>
            <p:cNvPr id="49" name=""/>
            <p:cNvGrpSpPr/>
            <p:nvPr/>
          </p:nvGrpSpPr>
          <p:grpSpPr>
            <a:xfrm>
              <a:off x="5257800" y="2857680"/>
              <a:ext cx="228600" cy="228600"/>
              <a:chOff x="5257800" y="2857680"/>
              <a:chExt cx="228600" cy="228600"/>
            </a:xfrm>
          </p:grpSpPr>
          <p:sp>
            <p:nvSpPr>
              <p:cNvPr id="50" name=""/>
              <p:cNvSpPr/>
              <p:nvPr/>
            </p:nvSpPr>
            <p:spPr>
              <a:xfrm>
                <a:off x="5257800" y="29718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57800" y="29721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5257800" y="28576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5257800" y="2857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755440" y="2857320"/>
            <a:ext cx="228960" cy="228960"/>
            <a:chOff x="2755440" y="2857320"/>
            <a:chExt cx="228960" cy="228960"/>
          </a:xfrm>
        </p:grpSpPr>
        <p:grpSp>
          <p:nvGrpSpPr>
            <p:cNvPr id="55" name=""/>
            <p:cNvGrpSpPr/>
            <p:nvPr/>
          </p:nvGrpSpPr>
          <p:grpSpPr>
            <a:xfrm>
              <a:off x="2755440" y="2857320"/>
              <a:ext cx="228600" cy="228600"/>
              <a:chOff x="2755440" y="2857320"/>
              <a:chExt cx="228600" cy="22860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2755440" y="29718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2755440" y="285732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2755440" y="297180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984400" y="2857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07T20:19:02Z</dcterms:modified>
  <cp:revision>10</cp:revision>
  <dc:subject/>
  <dc:title>No Slide Title</dc:title>
</cp:coreProperties>
</file>