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761-FB96-45FE-90FE-8019E332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13D-8FA9-4446-B598-AA6A3BEE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35D-41E8-477E-884C-F1F90B9E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B1C-5709-43B4-9BD3-75D1DCC5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691-C8EE-40B5-8939-17747E43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67E-BE39-4498-9E82-FBDFB8BE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ECB9-1F19-471F-BE0E-74803717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AEF-6159-4CB1-85E4-82490CA4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0EB-854A-4FAC-BB54-43F2994E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BC0-8AA6-42E5-B3BF-E605030F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EC0-D41D-4762-BE01-B2C041A1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788-3A5E-452A-A7AB-BE4BB204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96DD-C057-4170-ACBB-1EE22AE4E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828800"/>
            <a:ext cx="1295280" cy="457200"/>
          </a:xfrm>
          <a:prstGeom prst="rect">
            <a:avLst/>
          </a:prstGeom>
          <a:solidFill>
            <a:srgbClr val="cce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79960" y="1828800"/>
            <a:ext cx="1295280" cy="457200"/>
          </a:xfrm>
          <a:prstGeom prst="rect">
            <a:avLst/>
          </a:prstGeom>
          <a:solidFill>
            <a:srgbClr val="cce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0520" y="190332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15400" y="176544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a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10720" y="1905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G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851360" y="1943280"/>
            <a:ext cx="228600" cy="228600"/>
            <a:chOff x="4851360" y="1943280"/>
            <a:chExt cx="228600" cy="228600"/>
          </a:xfrm>
        </p:grpSpPr>
        <p:grpSp>
          <p:nvGrpSpPr>
            <p:cNvPr id="47" name=""/>
            <p:cNvGrpSpPr/>
            <p:nvPr/>
          </p:nvGrpSpPr>
          <p:grpSpPr>
            <a:xfrm>
              <a:off x="4851360" y="1943280"/>
              <a:ext cx="228600" cy="228600"/>
              <a:chOff x="4851360" y="1943280"/>
              <a:chExt cx="228600" cy="228600"/>
            </a:xfrm>
          </p:grpSpPr>
          <p:sp>
            <p:nvSpPr>
              <p:cNvPr id="48" name=""/>
              <p:cNvSpPr/>
              <p:nvPr/>
            </p:nvSpPr>
            <p:spPr>
              <a:xfrm>
                <a:off x="4851360" y="205740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51360" y="205776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4851360" y="194328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4851360" y="19432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565000" y="1942920"/>
            <a:ext cx="228960" cy="228960"/>
            <a:chOff x="2565000" y="1942920"/>
            <a:chExt cx="228960" cy="228960"/>
          </a:xfrm>
        </p:grpSpPr>
        <p:grpSp>
          <p:nvGrpSpPr>
            <p:cNvPr id="53" name=""/>
            <p:cNvGrpSpPr/>
            <p:nvPr/>
          </p:nvGrpSpPr>
          <p:grpSpPr>
            <a:xfrm>
              <a:off x="2565000" y="1942920"/>
              <a:ext cx="228600" cy="228600"/>
              <a:chOff x="2565000" y="1942920"/>
              <a:chExt cx="228600" cy="228600"/>
            </a:xfrm>
          </p:grpSpPr>
          <p:sp>
            <p:nvSpPr>
              <p:cNvPr id="54" name=""/>
              <p:cNvSpPr/>
              <p:nvPr/>
            </p:nvSpPr>
            <p:spPr>
              <a:xfrm flipH="1">
                <a:off x="2565000" y="205740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2565000" y="194292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565000" y="205740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793960" y="19432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06560" y="2057400"/>
            <a:ext cx="205740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6:21:38Z</dcterms:created>
  <dc:creator>Peter Rob</dc:creator>
  <dc:description/>
  <dc:language>en-US</dc:language>
  <cp:lastModifiedBy>Peter Rob</cp:lastModifiedBy>
  <dcterms:modified xsi:type="dcterms:W3CDTF">2005-09-21T00:01:41Z</dcterms:modified>
  <cp:revision>12</cp:revision>
  <dc:subject/>
  <dc:title>No Slide Title</dc:title>
</cp:coreProperties>
</file>