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7FE-BCEC-44F8-93D3-CBF56552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C39-E8E8-4860-B603-1260487A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EFD-BF01-4116-949C-1D2A5787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BB1-CC59-4632-A5CE-7FDADFC5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AAF-12BB-447E-99C2-62B93F6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FFD-3C6D-45EA-B66B-8318842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2EB-0179-4E70-98D2-7CDCBE88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243-42FA-4AAA-962A-C129D7F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F09-00BB-4556-AF64-16991141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117-809F-422D-9F46-1FD3AB5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14F-7B48-4689-BFC4-C507444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E19-B536-42F0-88A6-660B113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4D63-B338-4B5D-8EA3-46F8ABE5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743200"/>
            <a:ext cx="137160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7440" y="2732040"/>
            <a:ext cx="137160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2743200"/>
            <a:ext cx="137160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3040" y="280656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20680" y="28065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67440" y="256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3120" y="28195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2552760"/>
            <a:ext cx="3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2971800"/>
            <a:ext cx="685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971800"/>
            <a:ext cx="6858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00:44:47Z</dcterms:modified>
  <cp:revision>9</cp:revision>
  <dc:subject/>
  <dc:title>No Slide Title</dc:title>
</cp:coreProperties>
</file>