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CEE0-E6F5-4173-8988-8D0E33F20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4A86-FEC0-454B-8B02-513EBE567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8EA9-F613-4393-9B13-7FB2590F5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E781-F1B7-4DBD-975C-9481A1D99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52D2-9106-4117-8A04-992EE99A4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4FEB-34E5-416E-80A7-012253F93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3AF0-26D6-4532-AB49-BC98B447A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C1C8-989E-4BBE-B837-CBCA5A131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4318-0542-409A-A75E-4348CACE6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53C0-9B0F-443C-ADAB-A32DE3ABA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DD1F-F850-4FE3-906B-EED0BE89C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29DE-07D5-4D49-B6FB-3276C755A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28A6C-CF6C-4AB5-9D8B-3BD8697139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38680" y="2209680"/>
            <a:ext cx="1295640" cy="45720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2209680"/>
            <a:ext cx="1295280" cy="45720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039040" y="2284560"/>
            <a:ext cx="81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695200" y="2286000"/>
            <a:ext cx="12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009680" y="2158920"/>
            <a:ext cx="64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rv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25960" y="2324160"/>
            <a:ext cx="0" cy="228600"/>
          </a:xfrm>
          <a:prstGeom prst="line">
            <a:avLst/>
          </a:prstGeom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5334120" y="2285640"/>
            <a:ext cx="304560" cy="152280"/>
          </a:xfrm>
          <a:prstGeom prst="line">
            <a:avLst/>
          </a:prstGeom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4120" y="2438280"/>
            <a:ext cx="304560" cy="152640"/>
          </a:xfrm>
          <a:prstGeom prst="line">
            <a:avLst/>
          </a:prstGeom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21160" y="2324160"/>
            <a:ext cx="0" cy="228600"/>
          </a:xfrm>
          <a:prstGeom prst="line">
            <a:avLst/>
          </a:prstGeom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314880" y="2324160"/>
            <a:ext cx="0" cy="228600"/>
          </a:xfrm>
          <a:prstGeom prst="line">
            <a:avLst/>
          </a:prstGeom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2438280"/>
            <a:ext cx="2514600" cy="0"/>
          </a:xfrm>
          <a:prstGeom prst="line">
            <a:avLst/>
          </a:prstGeom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9T18:02:28Z</dcterms:created>
  <dc:creator>Peter Rob</dc:creator>
  <dc:description/>
  <dc:language>en-US</dc:language>
  <cp:lastModifiedBy>Peter Rob</cp:lastModifiedBy>
  <dcterms:modified xsi:type="dcterms:W3CDTF">2005-09-07T20:04:37Z</dcterms:modified>
  <cp:revision>9</cp:revision>
  <dc:subject/>
  <dc:title>No Slide Title</dc:title>
</cp:coreProperties>
</file>