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209-1C2F-4EB4-9467-F8159F9C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E72-C6F2-4044-A90E-33EE0B09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1A3-7BF9-42FE-88B1-2984BA81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873-BEE4-49C1-9E78-988B29ED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82D-040C-4672-8711-7A46C2AB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7CF-BF06-4925-BFFD-EE919AF0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B2F-7194-414B-AC72-1BD91DBC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67E-1438-4399-A76C-5D357695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60D-9DB0-45CD-99D6-19D46806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50F-D78B-4588-9571-4FBFA707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23B-EE2C-4B30-B299-DBE430A4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283-8CC1-4FDC-8D83-44259F9A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2370-59E7-449E-B086-32827803F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932200"/>
            <a:ext cx="1752480" cy="990360"/>
          </a:xfrm>
          <a:prstGeom prst="rect">
            <a:avLst/>
          </a:prstGeom>
          <a:solidFill>
            <a:srgbClr val="cc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1371600"/>
            <a:ext cx="1752840" cy="762120"/>
          </a:xfrm>
          <a:prstGeom prst="rect">
            <a:avLst/>
          </a:prstGeom>
          <a:solidFill>
            <a:srgbClr val="99c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79440" y="1170000"/>
            <a:ext cx="22258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PAT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PA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498760"/>
            <a:ext cx="2225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ORD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ORD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6666ff"/>
                </a:solidFill>
                <a:latin typeface="Times New Roman"/>
              </a:rPr>
              <a:t>ORD_DO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037040"/>
            <a:ext cx="2225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Times New Roman"/>
              </a:rPr>
              <a:t>MED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669900"/>
                </a:solidFill>
                <a:latin typeface="Times New Roman"/>
              </a:rPr>
              <a:t>MED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669900"/>
                </a:solidFill>
                <a:latin typeface="Times New Roman"/>
              </a:rPr>
              <a:t>MED_DOSAG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4400" y="13352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002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dy D. Johan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703600"/>
            <a:ext cx="1752840" cy="990360"/>
          </a:xfrm>
          <a:prstGeom prst="rect">
            <a:avLst/>
          </a:prstGeom>
          <a:solidFill>
            <a:srgbClr val="cc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10240" y="2666880"/>
            <a:ext cx="1631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241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-Mar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e M. Mora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2895480"/>
            <a:ext cx="160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3245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-Mar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orge G. Ocho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4532400"/>
            <a:ext cx="1752480" cy="76176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379760"/>
            <a:ext cx="1752480" cy="76212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4227480"/>
            <a:ext cx="1752840" cy="76212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4760" y="4191120"/>
            <a:ext cx="154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25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ml. 3x 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0920" y="4343400"/>
            <a:ext cx="146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3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tablet per m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4495680"/>
            <a:ext cx="145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28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mg. each 8 h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693960"/>
            <a:ext cx="0" cy="5335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147760"/>
            <a:ext cx="0" cy="5335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19:03:26Z</dcterms:created>
  <dc:creator>Peter Rob</dc:creator>
  <dc:description/>
  <dc:language>en-US</dc:language>
  <cp:lastModifiedBy>Peter Rob</cp:lastModifiedBy>
  <dcterms:modified xsi:type="dcterms:W3CDTF">2005-09-07T01:46:05Z</dcterms:modified>
  <cp:revision>9</cp:revision>
  <dc:subject/>
  <dc:title>No Slide Title</dc:title>
</cp:coreProperties>
</file>