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34F-3A68-476F-8AC5-1A1E8BEF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D48-B51F-4971-B8BE-74CB9A7E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12C-FB82-40E7-A4E6-9F72B821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A7B-BFA6-4935-AB47-EF7CEAD9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3C8-1555-47D4-A45A-92CD4133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980-6782-4186-B456-D68AE8A0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F5A-7F60-4A6B-A83F-C670A372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8A3-850F-45C5-A7A0-CE69FAED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AC51-A937-45BC-B5B2-5609AB94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DDB-FA60-4A26-87B6-1F183673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8DD-E043-4D68-B240-ADD880EF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888-6E2B-427E-B55A-B00659DD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2526-F344-4A06-A852-B9C7DCCCD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3657600"/>
            <a:ext cx="137160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62720" y="1981080"/>
            <a:ext cx="1371600" cy="457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981080"/>
            <a:ext cx="1371600" cy="45720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45800" y="2057400"/>
            <a:ext cx="110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LL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55320" y="205740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I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86840" y="373392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I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048120"/>
            <a:ext cx="1600200" cy="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514240" y="3048120"/>
            <a:ext cx="1523880" cy="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1040" y="304812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hibition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3920" y="30481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ist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55640" y="273060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: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5360" y="273060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: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40160" y="2438280"/>
            <a:ext cx="0" cy="60984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222960" y="2438280"/>
            <a:ext cx="0" cy="60984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13280" y="3048120"/>
            <a:ext cx="0" cy="60948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73520" y="3048120"/>
            <a:ext cx="0" cy="60948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7T05:34:43Z</dcterms:created>
  <dc:creator>Peter Rob</dc:creator>
  <dc:description/>
  <dc:language>en-US</dc:language>
  <cp:lastModifiedBy>Peter Rob</cp:lastModifiedBy>
  <dcterms:modified xsi:type="dcterms:W3CDTF">2005-09-20T21:31:33Z</dcterms:modified>
  <cp:revision>5</cp:revision>
  <dc:subject/>
  <dc:title>No Slide Title</dc:title>
</cp:coreProperties>
</file>