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A35-A75A-4F19-AACF-597C8F7D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C19-76E1-40A9-AA03-1FDD0D7D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AE7-B1F2-4CBD-ACC2-A44E2FEE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6E0-A07A-407F-A25F-B39B6325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CEA-E66C-4EE9-9609-322DCD2D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38F-F0E9-4594-AFC5-5B7F878A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B8A-06A2-42D5-A083-3A9B4DB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B3C-2D08-476A-824B-C2D4CBA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BCB-A09D-4040-A6E4-77F9CB6F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BD6-6600-43F1-97F1-0E86A04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31E-A9C6-4584-A365-C96B5CC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4AC-FA24-4DCF-9517-F32F66D0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C7CB-AABE-4088-AACA-15D289365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05520" y="5029200"/>
            <a:ext cx="198108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4343400"/>
            <a:ext cx="190512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1676520"/>
            <a:ext cx="2133720" cy="1218960"/>
          </a:xfrm>
          <a:prstGeom prst="rect">
            <a:avLst/>
          </a:prstGeom>
          <a:solidFill>
            <a:srgbClr val="ccc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3657600"/>
            <a:ext cx="190512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8640" y="15368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8000" y="1562040"/>
            <a:ext cx="1287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_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3760" y="35305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1680" y="3556080"/>
            <a:ext cx="142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G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TG_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1752480"/>
            <a:ext cx="1828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sephine G. Arti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15-999-89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1240" y="3708360"/>
            <a:ext cx="162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base Suns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2895480"/>
            <a:ext cx="0" cy="762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4400" y="4394160"/>
            <a:ext cx="161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erarchical 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5280" y="5067360"/>
            <a:ext cx="156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 Systems Fo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066680"/>
            <a:ext cx="7086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52960" y="102708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ity name        Attribut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13:51:07Z</dcterms:created>
  <dc:creator>Peter Rob</dc:creator>
  <dc:description/>
  <dc:language>en-US</dc:language>
  <cp:lastModifiedBy>Peter Rob</cp:lastModifiedBy>
  <dcterms:modified xsi:type="dcterms:W3CDTF">2005-09-07T01:45:21Z</dcterms:modified>
  <cp:revision>14</cp:revision>
  <dc:subject/>
  <dc:title>No Slide Title</dc:title>
</cp:coreProperties>
</file>