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F99-ADA6-48A8-929D-0C4FD15A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190-CA50-4C35-B044-F514C345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322-AD8A-43AE-B93A-C0F1E62B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AE3-EF4F-472C-9F56-A5452180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3E8-31EF-498F-B41D-50EBC05E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ADA-4D7B-48C8-8628-27659F5E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829-E01A-4702-8A21-4E62A6DC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5EB-ADAA-4B6C-AA9E-412606AA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FEA-6C74-4CAD-BC85-D280C37D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44D-8C15-4B64-8EB8-D8121509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470-8F07-4334-ABA5-07BCF6F5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116-F1D4-49E0-A119-EA2308C6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F2C9-E4EF-48BC-AB79-68B5D192D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2680" y="1727280"/>
            <a:ext cx="1676520" cy="533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61040" y="1839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00640" y="184140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43480" y="1727280"/>
            <a:ext cx="1600200" cy="533160"/>
          </a:xfrm>
          <a:prstGeom prst="diamond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90880" y="182880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958840" y="199404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40440" y="199404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2880" y="1548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09000" y="153576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53160" y="1727280"/>
            <a:ext cx="1676520" cy="533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860640"/>
            <a:ext cx="1676520" cy="5335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26480" y="39736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31520" y="3975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56080" y="3860640"/>
            <a:ext cx="1600200" cy="533520"/>
          </a:xfrm>
          <a:prstGeom prst="diamond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60280" y="396252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shown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971440" y="412740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53040" y="412740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85480" y="3694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21600" y="36691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65760" y="3860640"/>
            <a:ext cx="1676520" cy="5335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793960"/>
            <a:ext cx="1600200" cy="533520"/>
          </a:xfrm>
          <a:prstGeom prst="diamond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25960" y="28954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reference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603840" y="2273040"/>
            <a:ext cx="0" cy="5331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3840" y="3327480"/>
            <a:ext cx="0" cy="5331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4040" y="2284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86600" y="356760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8:02:28Z</dcterms:created>
  <dc:creator>Peter Rob</dc:creator>
  <dc:description/>
  <dc:language>en-US</dc:language>
  <cp:lastModifiedBy>Peter Rob</cp:lastModifiedBy>
  <dcterms:modified xsi:type="dcterms:W3CDTF">2005-09-07T01:43:40Z</dcterms:modified>
  <cp:revision>9</cp:revision>
  <dc:subject/>
  <dc:title>No Slide Title</dc:title>
</cp:coreProperties>
</file>