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0EE3-2E5A-4C58-82D2-EBE95AB15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E08C-2730-4C9E-A1D7-2929A52C2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B444-7018-4960-B7A2-79373EFCA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6E71-1423-4A31-AFED-0631C2193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5D04-A151-4784-81AD-0E12C23A7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D9F7-9CA0-42A2-8826-E853ED487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1663-410A-4014-B02D-B44BC16CC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CFE1-8B20-47B1-AC3E-377941BDC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46A6-8ADF-45C9-B90A-4118CB8C5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E796-5285-4C32-A7AE-240965E95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79D6-A93E-4ACD-BCA9-2275D6344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4E14-3A88-4F8B-9964-DE553E07F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4AD94-859A-48C5-BD10-F50B7DEA16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84480" y="838080"/>
            <a:ext cx="1295280" cy="457200"/>
          </a:xfrm>
          <a:prstGeom prst="rect">
            <a:avLst/>
          </a:prstGeom>
          <a:solidFill>
            <a:srgbClr val="ccecff"/>
          </a:solidFill>
          <a:ln w="316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299280" y="838080"/>
            <a:ext cx="1295280" cy="457200"/>
          </a:xfrm>
          <a:prstGeom prst="rect">
            <a:avLst/>
          </a:prstGeom>
          <a:solidFill>
            <a:srgbClr val="ccecff"/>
          </a:solidFill>
          <a:ln w="316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69800" y="900000"/>
            <a:ext cx="111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IRCRAF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607280" y="774720"/>
            <a:ext cx="48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l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524280" y="914400"/>
            <a:ext cx="87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LIGH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479760" y="1066680"/>
            <a:ext cx="170172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156280" y="1066680"/>
            <a:ext cx="1143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6070680" y="952560"/>
            <a:ext cx="228600" cy="228600"/>
            <a:chOff x="6070680" y="952560"/>
            <a:chExt cx="228600" cy="228600"/>
          </a:xfrm>
        </p:grpSpPr>
        <p:grpSp>
          <p:nvGrpSpPr>
            <p:cNvPr id="49" name=""/>
            <p:cNvGrpSpPr/>
            <p:nvPr/>
          </p:nvGrpSpPr>
          <p:grpSpPr>
            <a:xfrm>
              <a:off x="6070680" y="952560"/>
              <a:ext cx="228600" cy="228600"/>
              <a:chOff x="6070680" y="952560"/>
              <a:chExt cx="228600" cy="228600"/>
            </a:xfrm>
          </p:grpSpPr>
          <p:sp>
            <p:nvSpPr>
              <p:cNvPr id="50" name=""/>
              <p:cNvSpPr/>
              <p:nvPr/>
            </p:nvSpPr>
            <p:spPr>
              <a:xfrm>
                <a:off x="6070680" y="1066680"/>
                <a:ext cx="228600" cy="0"/>
              </a:xfrm>
              <a:prstGeom prst="line">
                <a:avLst/>
              </a:prstGeom>
              <a:ln w="284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070680" y="1067040"/>
                <a:ext cx="228600" cy="114120"/>
              </a:xfrm>
              <a:prstGeom prst="line">
                <a:avLst/>
              </a:prstGeom>
              <a:ln w="284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flipV="1">
                <a:off x="6070680" y="952560"/>
                <a:ext cx="228600" cy="114120"/>
              </a:xfrm>
              <a:prstGeom prst="line">
                <a:avLst/>
              </a:prstGeom>
              <a:ln w="284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" name=""/>
            <p:cNvSpPr/>
            <p:nvPr/>
          </p:nvSpPr>
          <p:spPr>
            <a:xfrm>
              <a:off x="6070680" y="952560"/>
              <a:ext cx="0" cy="22860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3479400" y="952200"/>
            <a:ext cx="228960" cy="228960"/>
            <a:chOff x="3479400" y="952200"/>
            <a:chExt cx="228960" cy="228960"/>
          </a:xfrm>
        </p:grpSpPr>
        <p:grpSp>
          <p:nvGrpSpPr>
            <p:cNvPr id="55" name=""/>
            <p:cNvGrpSpPr/>
            <p:nvPr/>
          </p:nvGrpSpPr>
          <p:grpSpPr>
            <a:xfrm>
              <a:off x="3479400" y="952200"/>
              <a:ext cx="228600" cy="228600"/>
              <a:chOff x="3479400" y="952200"/>
              <a:chExt cx="228600" cy="228600"/>
            </a:xfrm>
          </p:grpSpPr>
          <p:sp>
            <p:nvSpPr>
              <p:cNvPr id="56" name=""/>
              <p:cNvSpPr/>
              <p:nvPr/>
            </p:nvSpPr>
            <p:spPr>
              <a:xfrm flipH="1">
                <a:off x="3479400" y="1066680"/>
                <a:ext cx="228600" cy="0"/>
              </a:xfrm>
              <a:prstGeom prst="line">
                <a:avLst/>
              </a:prstGeom>
              <a:ln w="284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 flipV="1">
                <a:off x="3479400" y="952200"/>
                <a:ext cx="228600" cy="114120"/>
              </a:xfrm>
              <a:prstGeom prst="line">
                <a:avLst/>
              </a:prstGeom>
              <a:ln w="284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flipH="1">
                <a:off x="3479400" y="1066680"/>
                <a:ext cx="228600" cy="114120"/>
              </a:xfrm>
              <a:prstGeom prst="line">
                <a:avLst/>
              </a:prstGeom>
              <a:ln w="284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3708360" y="952560"/>
              <a:ext cx="0" cy="22860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7327800" y="2400480"/>
            <a:ext cx="76320" cy="228600"/>
            <a:chOff x="7327800" y="2400480"/>
            <a:chExt cx="76320" cy="228600"/>
          </a:xfrm>
        </p:grpSpPr>
        <p:sp>
          <p:nvSpPr>
            <p:cNvPr id="61" name=""/>
            <p:cNvSpPr/>
            <p:nvPr/>
          </p:nvSpPr>
          <p:spPr>
            <a:xfrm>
              <a:off x="7327800" y="2400480"/>
              <a:ext cx="0" cy="22860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04120" y="2400480"/>
              <a:ext cx="0" cy="22860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549360" y="2311560"/>
            <a:ext cx="1295280" cy="457200"/>
          </a:xfrm>
          <a:prstGeom prst="rect">
            <a:avLst/>
          </a:prstGeom>
          <a:solidFill>
            <a:srgbClr val="ccecff"/>
          </a:solidFill>
          <a:ln w="316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203720" y="2311560"/>
            <a:ext cx="1295280" cy="457200"/>
          </a:xfrm>
          <a:prstGeom prst="rect">
            <a:avLst/>
          </a:prstGeom>
          <a:solidFill>
            <a:srgbClr val="ccecff"/>
          </a:solidFill>
          <a:ln w="316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34680" y="2373480"/>
            <a:ext cx="111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IRCRAF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471400" y="2235240"/>
            <a:ext cx="118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s assigned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167720" y="2387520"/>
            <a:ext cx="1377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SSIGN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3975120" y="2425680"/>
            <a:ext cx="228600" cy="228600"/>
            <a:chOff x="3975120" y="2425680"/>
            <a:chExt cx="228600" cy="228600"/>
          </a:xfrm>
        </p:grpSpPr>
        <p:grpSp>
          <p:nvGrpSpPr>
            <p:cNvPr id="69" name=""/>
            <p:cNvGrpSpPr/>
            <p:nvPr/>
          </p:nvGrpSpPr>
          <p:grpSpPr>
            <a:xfrm>
              <a:off x="3975120" y="2425680"/>
              <a:ext cx="228600" cy="228600"/>
              <a:chOff x="3975120" y="2425680"/>
              <a:chExt cx="228600" cy="228600"/>
            </a:xfrm>
          </p:grpSpPr>
          <p:sp>
            <p:nvSpPr>
              <p:cNvPr id="70" name=""/>
              <p:cNvSpPr/>
              <p:nvPr/>
            </p:nvSpPr>
            <p:spPr>
              <a:xfrm>
                <a:off x="3975120" y="2539800"/>
                <a:ext cx="228600" cy="0"/>
              </a:xfrm>
              <a:prstGeom prst="line">
                <a:avLst/>
              </a:prstGeom>
              <a:ln w="284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3975120" y="2540160"/>
                <a:ext cx="228600" cy="114120"/>
              </a:xfrm>
              <a:prstGeom prst="line">
                <a:avLst/>
              </a:prstGeom>
              <a:ln w="284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V="1">
                <a:off x="3975120" y="2425680"/>
                <a:ext cx="228600" cy="114120"/>
              </a:xfrm>
              <a:prstGeom prst="line">
                <a:avLst/>
              </a:prstGeom>
              <a:ln w="284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3975120" y="2425680"/>
              <a:ext cx="0" cy="22860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5486040" y="2412720"/>
            <a:ext cx="228960" cy="228960"/>
            <a:chOff x="5486040" y="2412720"/>
            <a:chExt cx="228960" cy="228960"/>
          </a:xfrm>
        </p:grpSpPr>
        <p:grpSp>
          <p:nvGrpSpPr>
            <p:cNvPr id="75" name=""/>
            <p:cNvGrpSpPr/>
            <p:nvPr/>
          </p:nvGrpSpPr>
          <p:grpSpPr>
            <a:xfrm>
              <a:off x="5486040" y="2412720"/>
              <a:ext cx="228600" cy="228600"/>
              <a:chOff x="5486040" y="2412720"/>
              <a:chExt cx="228600" cy="228600"/>
            </a:xfrm>
          </p:grpSpPr>
          <p:sp>
            <p:nvSpPr>
              <p:cNvPr id="76" name=""/>
              <p:cNvSpPr/>
              <p:nvPr/>
            </p:nvSpPr>
            <p:spPr>
              <a:xfrm flipH="1">
                <a:off x="5486040" y="2527200"/>
                <a:ext cx="228600" cy="0"/>
              </a:xfrm>
              <a:prstGeom prst="line">
                <a:avLst/>
              </a:prstGeom>
              <a:ln w="284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flipV="1">
                <a:off x="5486040" y="2412720"/>
                <a:ext cx="228600" cy="114120"/>
              </a:xfrm>
              <a:prstGeom prst="line">
                <a:avLst/>
              </a:prstGeom>
              <a:ln w="284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5486040" y="2527200"/>
                <a:ext cx="228600" cy="114120"/>
              </a:xfrm>
              <a:prstGeom prst="line">
                <a:avLst/>
              </a:prstGeom>
              <a:ln w="284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" name=""/>
            <p:cNvSpPr/>
            <p:nvPr/>
          </p:nvSpPr>
          <p:spPr>
            <a:xfrm>
              <a:off x="5715000" y="2413080"/>
              <a:ext cx="0" cy="22860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7531200" y="2286000"/>
            <a:ext cx="1295280" cy="457200"/>
          </a:xfrm>
          <a:prstGeom prst="rect">
            <a:avLst/>
          </a:prstGeom>
          <a:solidFill>
            <a:srgbClr val="ccecff"/>
          </a:solidFill>
          <a:ln w="316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43240" y="2362320"/>
            <a:ext cx="87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LIGH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1968480" y="2425680"/>
            <a:ext cx="76320" cy="228600"/>
            <a:chOff x="1968480" y="2425680"/>
            <a:chExt cx="76320" cy="228600"/>
          </a:xfrm>
        </p:grpSpPr>
        <p:sp>
          <p:nvSpPr>
            <p:cNvPr id="83" name=""/>
            <p:cNvSpPr/>
            <p:nvPr/>
          </p:nvSpPr>
          <p:spPr>
            <a:xfrm>
              <a:off x="1968480" y="2425680"/>
              <a:ext cx="0" cy="22860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044800" y="2425680"/>
              <a:ext cx="0" cy="22860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6035760" y="2235240"/>
            <a:ext cx="83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hows 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71000" y="255600"/>
            <a:ext cx="21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itial M:N Sol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574800" y="1627200"/>
            <a:ext cx="25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mplementable Sol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828800" y="2540160"/>
            <a:ext cx="2133720" cy="0"/>
          </a:xfrm>
          <a:prstGeom prst="line">
            <a:avLst/>
          </a:prstGeom>
          <a:ln w="316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15000" y="2527200"/>
            <a:ext cx="1828800" cy="0"/>
          </a:xfrm>
          <a:prstGeom prst="line">
            <a:avLst/>
          </a:prstGeom>
          <a:ln w="316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03T16:21:38Z</dcterms:created>
  <dc:creator>Peter Rob</dc:creator>
  <dc:description/>
  <dc:language>en-US</dc:language>
  <cp:lastModifiedBy>Peter Rob</cp:lastModifiedBy>
  <dcterms:modified xsi:type="dcterms:W3CDTF">2005-09-07T20:21:23Z</dcterms:modified>
  <cp:revision>12</cp:revision>
  <dc:subject/>
  <dc:title>No Slide Title</dc:title>
</cp:coreProperties>
</file>