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A26-5E6D-4B1C-8E27-9FB007EC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824-CBE8-4D8F-B1A8-B727C415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AAF-4122-4633-923D-E4931514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58C-6DF8-4042-A1FF-6C7089DB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FB3-8486-4C08-AD7F-53DFEB4C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C7F-F775-48FA-85D1-AB6C62CA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16C-B93F-4F06-A5E9-B72F919C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C28-2C54-415E-9451-70B42952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EFF-7C3F-41F7-8C9A-C1F90642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FDB-C8BC-462F-A73F-F28F849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E72-9DD1-4A51-BA8E-EA6CC5FE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FBA-BD1A-4267-B94D-0F3554C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6595-C804-41E8-9A12-EBAC82C22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2286000"/>
            <a:ext cx="1143000" cy="457200"/>
          </a:xfrm>
          <a:prstGeom prst="flowChartDecision">
            <a:avLst/>
          </a:prstGeom>
          <a:solidFill>
            <a:srgbClr val="ffffff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286000"/>
            <a:ext cx="1143000" cy="45720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286000"/>
            <a:ext cx="1143000" cy="45720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819160" y="2514600"/>
            <a:ext cx="6858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514600"/>
            <a:ext cx="6858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04760" y="2068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15160" y="20685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352680"/>
            <a:ext cx="1143000" cy="457200"/>
          </a:xfrm>
          <a:prstGeom prst="flowChartDecision">
            <a:avLst/>
          </a:prstGeom>
          <a:solidFill>
            <a:srgbClr val="ffffff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3352680"/>
            <a:ext cx="1143000" cy="45720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3581280"/>
            <a:ext cx="685800" cy="18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15520" y="31608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31400" y="3162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09320" y="3581280"/>
            <a:ext cx="129564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222640" y="2743200"/>
            <a:ext cx="0" cy="83808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5840" y="2347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8960" y="236232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18440" y="234936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a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2600" y="3429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20600" y="341640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v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20T23:51:38Z</dcterms:modified>
  <cp:revision>9</cp:revision>
  <dc:subject/>
  <dc:title>No Slide Title</dc:title>
</cp:coreProperties>
</file>