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4C0-8CC0-4BAD-B0FC-0ECE6475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FD0-C24F-4A1E-80D4-528251D7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57D-89F1-4F77-A7E4-2E94E713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727-6439-404E-A99B-24D61076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062-37D9-4B67-9186-0D4D336B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359-D519-487A-8A0B-F6937F9D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1A4-E041-473E-AA1C-447C7AC1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B58-9D57-4D3A-89C2-F0114447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FDA-3D4E-4DC0-9587-57525A13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011-31A4-46F2-BE37-4129A4DD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BE4-5863-4E30-A34A-87F69298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23E-69E6-4F5E-8643-DB609336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7661-1D3E-4F06-BF48-ECB6772C6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457200"/>
            <a:ext cx="464796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3610080" cy="628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3924360" cy="1390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371600" y="2057400"/>
            <a:ext cx="3762360" cy="628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79800" y="719280"/>
            <a:ext cx="178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name: PA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6280" y="1800360"/>
            <a:ext cx="184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name: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6920" y="2867040"/>
            <a:ext cx="184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name: PAI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87440" y="723960"/>
            <a:ext cx="21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 name: Ch02_U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21:21:08Z</dcterms:created>
  <dc:creator>Peter Rob</dc:creator>
  <dc:description/>
  <dc:language>en-US</dc:language>
  <cp:lastModifiedBy>Peter Rob</cp:lastModifiedBy>
  <dcterms:modified xsi:type="dcterms:W3CDTF">2007-10-08T21:23:48Z</dcterms:modified>
  <cp:revision>3</cp:revision>
  <dc:subject/>
  <dc:title>Slide 1</dc:title>
</cp:coreProperties>
</file>