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2AAA-3CF0-4067-A6A4-7F63B7F06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7415-8E02-46EB-A288-48EB8750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0950-B0A9-49CF-B920-7C82A9A5E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1109-1350-4891-8E3A-30F4D9100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665B-EBCA-4E90-81AC-5CBF7D5A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FF84-563A-45FE-A80E-6DE540B5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2510-F6EA-4F12-B41B-34BDD69C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CA51-52F2-4037-B784-5CEB4AA0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7CE2-8C29-4F93-A8CE-7861D6DB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2D62-72A1-44AE-B73D-87A75AB5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F562-5DDA-49C6-AF71-AF51911B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E80D-148E-4E94-B56F-3618A3D8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2B45-4502-4AB9-A00E-34F955897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33920" y="3429000"/>
            <a:ext cx="1523880" cy="609480"/>
          </a:xfrm>
          <a:prstGeom prst="rect">
            <a:avLst/>
          </a:prstGeom>
          <a:solidFill>
            <a:srgbClr val="ffcc99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87440" y="1436760"/>
            <a:ext cx="1523880" cy="60948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6040" y="1600200"/>
            <a:ext cx="12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QUI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111720" y="1436760"/>
            <a:ext cx="1524240" cy="609480"/>
          </a:xfrm>
          <a:prstGeom prst="rect">
            <a:avLst/>
          </a:prstGeom>
          <a:solidFill>
            <a:srgbClr val="ccffcc"/>
          </a:soli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42120" y="1589040"/>
            <a:ext cx="106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PPL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93280" y="35812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49560" y="2579760"/>
            <a:ext cx="1981080" cy="0"/>
          </a:xfrm>
          <a:prstGeom prst="line">
            <a:avLst/>
          </a:prstGeom>
          <a:ln w="414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4879440" y="2579760"/>
            <a:ext cx="2057400" cy="0"/>
          </a:xfrm>
          <a:prstGeom prst="line">
            <a:avLst/>
          </a:prstGeom>
          <a:ln w="414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92440" y="2603520"/>
            <a:ext cx="134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t needed 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54320" y="257976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t supplied 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2360" y="226044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: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3960" y="226044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: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14800" y="2577960"/>
            <a:ext cx="0" cy="838440"/>
          </a:xfrm>
          <a:prstGeom prst="line">
            <a:avLst/>
          </a:prstGeom>
          <a:ln w="414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89520" y="2565360"/>
            <a:ext cx="0" cy="863640"/>
          </a:xfrm>
          <a:prstGeom prst="line">
            <a:avLst/>
          </a:prstGeom>
          <a:ln w="414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171880" y="2057400"/>
            <a:ext cx="0" cy="533520"/>
          </a:xfrm>
          <a:prstGeom prst="line">
            <a:avLst/>
          </a:prstGeom>
          <a:ln w="414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21360" y="2057400"/>
            <a:ext cx="0" cy="533520"/>
          </a:xfrm>
          <a:prstGeom prst="line">
            <a:avLst/>
          </a:prstGeom>
          <a:ln w="414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7T05:11:29Z</dcterms:created>
  <dc:creator>Peter Rob</dc:creator>
  <dc:description/>
  <dc:language>en-US</dc:language>
  <cp:lastModifiedBy>Peter Rob</cp:lastModifiedBy>
  <dcterms:modified xsi:type="dcterms:W3CDTF">2005-09-07T01:47:13Z</dcterms:modified>
  <cp:revision>6</cp:revision>
  <dc:subject/>
  <dc:title>No Slide Title</dc:title>
</cp:coreProperties>
</file>