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B42-5FF3-47C0-B71C-EA5FCA15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694-C1F8-4B22-930C-A2114565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CF1-EE62-4377-8BA4-4B419CE6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251-07C3-4819-939A-7768ED8C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A9C-0378-4F68-B604-74EA2B51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C56-501B-4FC0-855C-ED356529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B76-0A46-4ABD-A849-5F3469E8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538-439D-44C4-8CD8-1EA6C93F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B72-FFC3-4D38-B034-C490E5AE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DF8-AE47-4EA9-9E06-46CF633E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CE8-81D5-41E5-8A8E-028ED10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B8C-403A-42FF-A81B-379BC254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C2F8-1010-40FF-A404-DAA41E469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30800" y="3086280"/>
            <a:ext cx="175248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36000" y="31622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11760" y="2819520"/>
            <a:ext cx="175248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54560" y="2552760"/>
            <a:ext cx="175248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7360" y="2286000"/>
            <a:ext cx="175248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5320" y="700200"/>
            <a:ext cx="1676520" cy="609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56240" y="85104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7240" y="23241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84960" y="2629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6600" y="28954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82960" y="144792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e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79320" y="14605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: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4479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98680" y="130824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3120" y="1765440"/>
            <a:ext cx="24386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1765440"/>
            <a:ext cx="0" cy="5331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838080"/>
            <a:ext cx="16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wner recor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66400" y="271764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ber record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97760" y="2311560"/>
            <a:ext cx="380880" cy="1143000"/>
          </a:xfrm>
          <a:custGeom>
            <a:avLst/>
            <a:gdLst>
              <a:gd name="textAreaLeft" fmla="*/ 0 w 380880"/>
              <a:gd name="textAreaRight" fmla="*/ 13752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38280" y="990720"/>
            <a:ext cx="41148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13:51:07Z</dcterms:created>
  <dc:creator>Peter Rob</dc:creator>
  <dc:description/>
  <dc:language>en-US</dc:language>
  <cp:lastModifiedBy>Peter Rob</cp:lastModifiedBy>
  <dcterms:modified xsi:type="dcterms:W3CDTF">2005-11-11T21:59:39Z</dcterms:modified>
  <cp:revision>13</cp:revision>
  <dc:subject/>
  <dc:title>No Slide Title</dc:title>
</cp:coreProperties>
</file>