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CCC-8ED0-4A67-BE7B-972CDD37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A86-56A4-4B56-ADA0-F3ACDA5A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827-4377-4ABC-8D55-B2821784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BA7-5D20-44CE-B9E4-42FB0874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694-D93C-4F00-ABE7-073CB65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FB9-BB15-4964-800D-0332841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D42-E793-434F-9835-BFE1F387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19A-48D8-4CA6-A88F-19CE5B5D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AF0-A559-4836-9B78-22644925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239-325C-4C57-926F-1EE5F86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DB0-0550-477E-9938-092BF50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AA7-1DAB-46D3-8437-7DE2B95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ADB-A3C5-4B18-AED9-DC30B397E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4876920"/>
            <a:ext cx="1523880" cy="53316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4724280"/>
            <a:ext cx="1524240" cy="5335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4572000"/>
            <a:ext cx="1523880" cy="5335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419720"/>
            <a:ext cx="1523880" cy="53316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124080"/>
            <a:ext cx="1523880" cy="533520"/>
          </a:xfrm>
          <a:prstGeom prst="rect">
            <a:avLst/>
          </a:prstGeom>
          <a:solidFill>
            <a:srgbClr val="ffcc9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971800"/>
            <a:ext cx="1523880" cy="533520"/>
          </a:xfrm>
          <a:prstGeom prst="rect">
            <a:avLst/>
          </a:prstGeom>
          <a:solidFill>
            <a:srgbClr val="ffcc9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1371600"/>
            <a:ext cx="1523880" cy="533520"/>
          </a:xfrm>
          <a:prstGeom prst="rect">
            <a:avLst/>
          </a:prstGeom>
          <a:solidFill>
            <a:srgbClr val="ccc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26320" y="14479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2819520"/>
            <a:ext cx="1524240" cy="533160"/>
          </a:xfrm>
          <a:prstGeom prst="rect">
            <a:avLst/>
          </a:prstGeom>
          <a:solidFill>
            <a:srgbClr val="ffcc9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6440" y="28954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267080"/>
            <a:ext cx="1524240" cy="53352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02280" y="43434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819520"/>
            <a:ext cx="1523880" cy="533160"/>
          </a:xfrm>
          <a:prstGeom prst="rect">
            <a:avLst/>
          </a:prstGeom>
          <a:solidFill>
            <a:srgbClr val="ccff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0560" y="2895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09880" y="190512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362320"/>
            <a:ext cx="1143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24440" y="236232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8280" y="335268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3809880"/>
            <a:ext cx="10670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380988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05320" y="335268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720" y="3809880"/>
            <a:ext cx="12956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8480" y="380988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5520" y="3428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19803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2520" y="3428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09720" y="23616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talog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040" y="380916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-Enroll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9000" y="3809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-Enroll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3T20:14:30Z</dcterms:created>
  <dc:creator>Peter Rob</dc:creator>
  <dc:description/>
  <dc:language>en-US</dc:language>
  <cp:lastModifiedBy>Peter Rob</cp:lastModifiedBy>
  <dcterms:modified xsi:type="dcterms:W3CDTF">2005-09-07T01:44:15Z</dcterms:modified>
  <cp:revision>10</cp:revision>
  <dc:subject/>
  <dc:title>No Slide Title</dc:title>
</cp:coreProperties>
</file>