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84A-7F01-4192-A088-D4C0573E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13-E67F-4C89-9107-0D3E3259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6A8-FCD4-45A7-9470-5A6B9268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133-3C00-45F0-A1C7-E4BE0136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F9A-DC4E-43CA-80C2-A3B644BB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6DB-288E-4810-BAC7-2DFFC71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BF8-09D9-4A7E-8346-FC53B38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859-0303-4C72-A7D5-C437F5D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CD7-F287-4E3A-BEDD-59CD2A0A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768-FC38-4ACE-8168-F1385AF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07A-9BC7-48C6-9CA7-CE3BEFF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69B-DDEF-4886-8630-A7900F8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8F3-AD8E-4D0B-9CFB-ECFEA888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0960" y="278136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0960" y="4915080"/>
            <a:ext cx="1676520" cy="5331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8136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4600" y="28940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ES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67640" y="289548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2840" y="27558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r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6280" y="491652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80" y="5029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0640" y="50292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_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1520" y="48769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record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38988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79760" y="2933640"/>
            <a:ext cx="228600" cy="228600"/>
            <a:chOff x="3479760" y="2933640"/>
            <a:chExt cx="228600" cy="228600"/>
          </a:xfrm>
        </p:grpSpPr>
        <p:grpSp>
          <p:nvGrpSpPr>
            <p:cNvPr id="53" name=""/>
            <p:cNvGrpSpPr/>
            <p:nvPr/>
          </p:nvGrpSpPr>
          <p:grpSpPr>
            <a:xfrm>
              <a:off x="3479760" y="2933640"/>
              <a:ext cx="228600" cy="228600"/>
              <a:chOff x="3479760" y="293364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>
                <a:off x="3479760" y="304776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79760" y="304812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479760" y="29336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479760" y="293364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419720" y="4686120"/>
            <a:ext cx="228600" cy="228960"/>
            <a:chOff x="4419720" y="4686120"/>
            <a:chExt cx="228600" cy="228960"/>
          </a:xfrm>
        </p:grpSpPr>
        <p:grpSp>
          <p:nvGrpSpPr>
            <p:cNvPr id="59" name=""/>
            <p:cNvGrpSpPr/>
            <p:nvPr/>
          </p:nvGrpSpPr>
          <p:grpSpPr>
            <a:xfrm>
              <a:off x="4419720" y="4686120"/>
              <a:ext cx="228240" cy="228960"/>
              <a:chOff x="4419720" y="4686120"/>
              <a:chExt cx="228240" cy="22896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534200" y="4686120"/>
                <a:ext cx="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34200" y="4686480"/>
                <a:ext cx="11376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419720" y="4686480"/>
                <a:ext cx="11448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419720" y="468648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06760" y="3454560"/>
            <a:ext cx="228600" cy="75960"/>
            <a:chOff x="4406760" y="3454560"/>
            <a:chExt cx="228600" cy="75960"/>
          </a:xfrm>
        </p:grpSpPr>
        <p:sp>
          <p:nvSpPr>
            <p:cNvPr id="65" name=""/>
            <p:cNvSpPr/>
            <p:nvPr/>
          </p:nvSpPr>
          <p:spPr>
            <a:xfrm>
              <a:off x="4406760" y="345456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53052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006640" y="2933640"/>
            <a:ext cx="76320" cy="228600"/>
            <a:chOff x="2006640" y="2933640"/>
            <a:chExt cx="76320" cy="228600"/>
          </a:xfrm>
        </p:grpSpPr>
        <p:sp>
          <p:nvSpPr>
            <p:cNvPr id="68" name=""/>
            <p:cNvSpPr/>
            <p:nvPr/>
          </p:nvSpPr>
          <p:spPr>
            <a:xfrm>
              <a:off x="2006640" y="293364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82960" y="293364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479760" y="5067360"/>
            <a:ext cx="228600" cy="228600"/>
            <a:chOff x="3479760" y="5067360"/>
            <a:chExt cx="228600" cy="228600"/>
          </a:xfrm>
        </p:grpSpPr>
        <p:grpSp>
          <p:nvGrpSpPr>
            <p:cNvPr id="71" name=""/>
            <p:cNvGrpSpPr/>
            <p:nvPr/>
          </p:nvGrpSpPr>
          <p:grpSpPr>
            <a:xfrm>
              <a:off x="3479760" y="5067360"/>
              <a:ext cx="228600" cy="228600"/>
              <a:chOff x="3479760" y="5067360"/>
              <a:chExt cx="228600" cy="228600"/>
            </a:xfrm>
          </p:grpSpPr>
          <p:sp>
            <p:nvSpPr>
              <p:cNvPr id="72" name=""/>
              <p:cNvSpPr/>
              <p:nvPr/>
            </p:nvSpPr>
            <p:spPr>
              <a:xfrm>
                <a:off x="3479760" y="51814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9760" y="51818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79760" y="50673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479760" y="50673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035080" y="5068800"/>
            <a:ext cx="76320" cy="228600"/>
            <a:chOff x="2035080" y="5068800"/>
            <a:chExt cx="76320" cy="228600"/>
          </a:xfrm>
        </p:grpSpPr>
        <p:sp>
          <p:nvSpPr>
            <p:cNvPr id="77" name=""/>
            <p:cNvSpPr/>
            <p:nvPr/>
          </p:nvSpPr>
          <p:spPr>
            <a:xfrm>
              <a:off x="2035080" y="506880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1400" y="506880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21240" y="3340080"/>
            <a:ext cx="0" cy="13716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0160" y="662040"/>
            <a:ext cx="167616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080" y="77472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2640" y="17794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456080" y="2552400"/>
            <a:ext cx="228600" cy="228960"/>
            <a:chOff x="4456080" y="2552400"/>
            <a:chExt cx="228600" cy="228960"/>
          </a:xfrm>
        </p:grpSpPr>
        <p:grpSp>
          <p:nvGrpSpPr>
            <p:cNvPr id="84" name=""/>
            <p:cNvGrpSpPr/>
            <p:nvPr/>
          </p:nvGrpSpPr>
          <p:grpSpPr>
            <a:xfrm>
              <a:off x="4456080" y="2552400"/>
              <a:ext cx="228240" cy="228960"/>
              <a:chOff x="4456080" y="2552400"/>
              <a:chExt cx="228240" cy="22896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4570560" y="2552400"/>
                <a:ext cx="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70560" y="2552760"/>
                <a:ext cx="11376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456080" y="2552760"/>
                <a:ext cx="11448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456080" y="255276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44920" y="1335240"/>
            <a:ext cx="228600" cy="75960"/>
            <a:chOff x="4444920" y="1335240"/>
            <a:chExt cx="228600" cy="75960"/>
          </a:xfrm>
        </p:grpSpPr>
        <p:sp>
          <p:nvSpPr>
            <p:cNvPr id="90" name=""/>
            <p:cNvSpPr/>
            <p:nvPr/>
          </p:nvSpPr>
          <p:spPr>
            <a:xfrm>
              <a:off x="4444920" y="13352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44920" y="141120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560840" y="1195560"/>
            <a:ext cx="0" cy="13716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6200" y="3048120"/>
            <a:ext cx="16761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92160" y="5181480"/>
            <a:ext cx="16002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9360" y="66204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10040" y="7747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3520" y="63504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61040" y="812880"/>
            <a:ext cx="228600" cy="228600"/>
            <a:chOff x="7061040" y="812880"/>
            <a:chExt cx="228600" cy="228600"/>
          </a:xfrm>
        </p:grpSpPr>
        <p:grpSp>
          <p:nvGrpSpPr>
            <p:cNvPr id="99" name=""/>
            <p:cNvGrpSpPr/>
            <p:nvPr/>
          </p:nvGrpSpPr>
          <p:grpSpPr>
            <a:xfrm>
              <a:off x="7061040" y="812880"/>
              <a:ext cx="228600" cy="228600"/>
              <a:chOff x="7061040" y="812880"/>
              <a:chExt cx="228600" cy="228600"/>
            </a:xfrm>
          </p:grpSpPr>
          <p:sp>
            <p:nvSpPr>
              <p:cNvPr id="100" name=""/>
              <p:cNvSpPr/>
              <p:nvPr/>
            </p:nvSpPr>
            <p:spPr>
              <a:xfrm>
                <a:off x="7061040" y="9270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61040" y="9273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061040" y="8128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061040" y="812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567400" y="812880"/>
            <a:ext cx="76320" cy="228600"/>
            <a:chOff x="5567400" y="812880"/>
            <a:chExt cx="76320" cy="228600"/>
          </a:xfrm>
        </p:grpSpPr>
        <p:sp>
          <p:nvSpPr>
            <p:cNvPr id="105" name=""/>
            <p:cNvSpPr/>
            <p:nvPr/>
          </p:nvSpPr>
          <p:spPr>
            <a:xfrm>
              <a:off x="5567400" y="812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3720" y="812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376960" y="927000"/>
            <a:ext cx="16761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20T22:03:47Z</dcterms:modified>
  <cp:revision>14</cp:revision>
  <dc:subject/>
  <dc:title>No Slide Title</dc:title>
</cp:coreProperties>
</file>