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088-E895-4BD5-A1C5-7CC54BD9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800-1B22-4825-9463-F1347D37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A2A-05E6-43C6-9F6C-4947AD60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84B-AB41-4662-A2BF-1187E6D7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EAB-DDD0-4A02-A252-34CA630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789-D020-470C-92BA-8625EA2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E6B-AF71-443C-BD15-24F16F7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C71-A0F7-4CB1-973C-A6FA3F1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0E3-C8B5-4B5D-8120-344181E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F8F-6B8E-4C3F-BC87-A570466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CF2-87EC-4F78-A7CA-596D54C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0CE-0468-4E0D-B032-08C1AB1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8DAC-0E1A-465E-91CE-A557F7D87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685800"/>
            <a:ext cx="1676520" cy="1676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685800"/>
            <a:ext cx="1676520" cy="33526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219320"/>
            <a:ext cx="1676160" cy="25146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191120"/>
            <a:ext cx="1981080" cy="2133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657600"/>
            <a:ext cx="1676520" cy="25146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85800"/>
            <a:ext cx="1676520" cy="20574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4440" y="304920"/>
            <a:ext cx="1692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LAST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FIRST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5040" y="304920"/>
            <a:ext cx="1692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LAST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FIRST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Z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4040" y="304920"/>
            <a:ext cx="1443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_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3440" y="838080"/>
            <a:ext cx="1415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080" y="3276720"/>
            <a:ext cx="1287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_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_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_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5000" y="3809880"/>
            <a:ext cx="20095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_Q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1920" y="407664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1920" y="576576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1920" y="4495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920" y="4915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1920" y="5334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461016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502920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547380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59054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1920" y="109224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51920" y="15238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1920" y="19684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1920" y="2387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63836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4638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908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3400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110484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19432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2362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78136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22596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6450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5238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110484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5238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19558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91440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28800" y="43434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67080" y="838080"/>
            <a:ext cx="6858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91440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9880" y="684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3400" y="1141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0600" y="35931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0600" y="47232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240" y="411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9640" y="24372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9400" y="684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46320" y="684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6120" y="12182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208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828800" y="1371240"/>
            <a:ext cx="76212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9:44:30Z</dcterms:created>
  <dc:creator>Peter Rob</dc:creator>
  <dc:description/>
  <dc:language>en-US</dc:language>
  <cp:lastModifiedBy>Peter Rob</cp:lastModifiedBy>
  <dcterms:modified xsi:type="dcterms:W3CDTF">2005-09-20T22:19:51Z</dcterms:modified>
  <cp:revision>7</cp:revision>
  <dc:subject/>
  <dc:title>No Slide Title</dc:title>
</cp:coreProperties>
</file>