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A8B-276C-4E1C-81FA-3364F108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536-6F3D-4F63-A2F3-2958A83B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EC2-D9F3-4797-84B6-AC20D035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F9B-026C-462C-A9DD-EFE7266E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150-6D47-4020-8E98-337F1C48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7B8-1708-4BC5-A474-33CDAD0D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192-6690-4535-BC66-9DD4701F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E96-45C4-4845-ADB9-04484D22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8EA-2E67-4D0B-BE2F-440C9A89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361-9C9A-4651-80A6-E924527A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AFD-25FF-4497-8043-D6E2FE2E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97C-A643-4A68-9DAD-FF35EE83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7270-4A0C-4011-9F4E-F524A9A83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2680" y="1727280"/>
            <a:ext cx="1676520" cy="533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66800" y="183996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86600" y="18414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43480" y="1727280"/>
            <a:ext cx="1600200" cy="533160"/>
          </a:xfrm>
          <a:prstGeom prst="diamond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1400" y="1828800"/>
            <a:ext cx="12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locat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958840" y="199404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40440" y="199404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2880" y="1548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09000" y="153576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53160" y="1727280"/>
            <a:ext cx="1676520" cy="533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860640"/>
            <a:ext cx="1676520" cy="5335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68040" y="39736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95080" y="39751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56080" y="3860640"/>
            <a:ext cx="1600200" cy="533520"/>
          </a:xfrm>
          <a:prstGeom prst="diamond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78200" y="39625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assign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971440" y="412740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53040" y="412740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85480" y="3694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21600" y="36691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65760" y="3860640"/>
            <a:ext cx="1676520" cy="5335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793960"/>
            <a:ext cx="1600200" cy="533520"/>
          </a:xfrm>
          <a:prstGeom prst="diamond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95600" y="289548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603840" y="2273040"/>
            <a:ext cx="0" cy="5331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3840" y="3327480"/>
            <a:ext cx="0" cy="5331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11440" y="2284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356760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8:02:28Z</dcterms:created>
  <dc:creator>Peter Rob</dc:creator>
  <dc:description/>
  <dc:language>en-US</dc:language>
  <cp:lastModifiedBy>Peter Rob</cp:lastModifiedBy>
  <dcterms:modified xsi:type="dcterms:W3CDTF">2005-09-07T01:38:37Z</dcterms:modified>
  <cp:revision>8</cp:revision>
  <dc:subject/>
  <dc:title>No Slide Title</dc:title>
</cp:coreProperties>
</file>