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DC7-F868-44A4-8BF6-3FE7A6CA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AE4-3198-4E21-837E-0EEA5E4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94F-89B0-45EA-9977-C5DA503E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6B9-97B3-4B38-86E1-E3AAC7EC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9C0-C26B-4153-8592-CC67141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E24-17B5-4D02-B774-88744BC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383-17A1-476F-898E-C7AA7EB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7D0-AC39-46FF-8D6F-21C3016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798-70EA-45F1-AC53-6B3797E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B8A-130C-470C-96FB-FBB5E354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50E-A2B2-4FC6-A818-1BA8C3D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3E1-18E2-4830-87E6-02AE57F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B700-6EA7-4B3A-95F6-DEC75209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6400800" cy="4953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4880" y="4826160"/>
            <a:ext cx="1981080" cy="7617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4140360"/>
            <a:ext cx="1905120" cy="7617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22760" y="1473120"/>
            <a:ext cx="2133720" cy="1219320"/>
          </a:xfrm>
          <a:prstGeom prst="rect">
            <a:avLst/>
          </a:prstGeom>
          <a:solidFill>
            <a:srgbClr val="ccc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3454560"/>
            <a:ext cx="1905120" cy="7617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640" y="15368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8000" y="1562040"/>
            <a:ext cx="1287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3760" y="34797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21680" y="3505320"/>
            <a:ext cx="142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G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G_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99080" y="1549440"/>
            <a:ext cx="1828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sephine G. Art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15-999-89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0600" y="3505320"/>
            <a:ext cx="16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base Suns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89440" y="2692440"/>
            <a:ext cx="0" cy="762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3760" y="4191120"/>
            <a:ext cx="161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erarchical 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34640" y="4851360"/>
            <a:ext cx="15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Systems Fo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066680"/>
            <a:ext cx="7086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2960" y="102708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ty name        Attribut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3:51:07Z</dcterms:created>
  <dc:creator>Peter Rob</dc:creator>
  <dc:description/>
  <dc:language>en-US</dc:language>
  <cp:lastModifiedBy>Peter Rob</cp:lastModifiedBy>
  <dcterms:modified xsi:type="dcterms:W3CDTF">2005-09-19T21:53:24Z</dcterms:modified>
  <cp:revision>16</cp:revision>
  <dc:subject/>
  <dc:title>No Slide Title</dc:title>
</cp:coreProperties>
</file>