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AF0-718B-4A29-838A-97E9D215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923-E62C-4EAA-ABA9-251D4275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FE6-B92B-46C8-906B-435FE491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86A-DABC-4E3F-8516-69BA709A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357-ACC8-4923-84F8-3A0BCF7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61C-3293-4415-8C55-AFC20DD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883-1AC3-4EF0-90E4-B286C274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EB1-3222-4B49-92C8-13487EC7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3EA-1E74-4D18-9DC1-907F88D6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45C-F9E9-41E2-826B-05A17C9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8E9-3723-4785-B56F-FAFD7ED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2E6-B48E-40BD-83D1-214BDE7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4EF-B884-4703-AF20-FB583262E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85800"/>
            <a:ext cx="1828800" cy="14479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447920"/>
            <a:ext cx="129528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38760" y="7603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2120" y="15238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21824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01:37:35Z</dcterms:modified>
  <cp:revision>6</cp:revision>
  <dc:subject/>
  <dc:title>No Slide Title</dc:title>
</cp:coreProperties>
</file>