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E76E-6A13-4A32-8E78-D414669D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C315-5FD1-4175-8115-100B8E34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244B-A5F6-419F-863E-9D86D80EA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8B72-5616-42DD-A9CB-D7327D15F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C2BC-E737-4070-B60F-ADDAB0FC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F182-8BE6-4668-A633-876566A0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F17A-E60E-4E9F-98A4-89E0BFD9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B3B3-965B-4A7A-93DD-019C0A7A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ECA5-4D42-4154-97AF-64E7F529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F5AF-4D67-4655-A127-2D45FF14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3F17-5BD1-42E2-832E-764AF7CF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9F95-5491-4070-94F8-46C105FC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21F6-A076-43CE-BDF3-D8CB12107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87840" y="1600200"/>
            <a:ext cx="1371600" cy="457200"/>
          </a:xfrm>
          <a:prstGeom prst="flowChartDecision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06400" y="1600200"/>
            <a:ext cx="1295640" cy="457200"/>
          </a:xfrm>
          <a:prstGeom prst="rect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21200" y="1600200"/>
            <a:ext cx="1295640" cy="457200"/>
          </a:xfrm>
          <a:prstGeom prst="rect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7000" y="1662120"/>
            <a:ext cx="107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IRLI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29200" y="1663560"/>
            <a:ext cx="4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12480" y="1433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89640" y="143352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33600" y="167652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02040" y="1828800"/>
            <a:ext cx="685800" cy="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59440" y="1828800"/>
            <a:ext cx="761760" cy="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63040" y="78912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itial M:N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9120" y="3441600"/>
            <a:ext cx="1371600" cy="457200"/>
          </a:xfrm>
          <a:prstGeom prst="flowChartDecision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4440" y="3441600"/>
            <a:ext cx="1295280" cy="457200"/>
          </a:xfrm>
          <a:prstGeom prst="rect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72080" y="3454560"/>
            <a:ext cx="1295280" cy="457200"/>
          </a:xfrm>
          <a:prstGeom prst="rect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4680" y="3503520"/>
            <a:ext cx="107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IRLI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5600" y="350532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 assigned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50520" y="3274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18200" y="328932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710120" y="351792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L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79800" y="274320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ementable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78560" y="3441600"/>
            <a:ext cx="1371600" cy="457200"/>
          </a:xfrm>
          <a:prstGeom prst="flowChartDecision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52800" y="351792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 shown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72520" y="3441600"/>
            <a:ext cx="1295280" cy="457200"/>
          </a:xfrm>
          <a:prstGeom prst="rect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40240" y="32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40400" y="3530520"/>
            <a:ext cx="137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69160" y="328932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523880" y="3670200"/>
            <a:ext cx="457200" cy="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27480" y="3670200"/>
            <a:ext cx="457200" cy="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054400" y="3670200"/>
            <a:ext cx="533160" cy="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3670200"/>
            <a:ext cx="533160" cy="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16:21:38Z</dcterms:created>
  <dc:creator>Peter Rob</dc:creator>
  <dc:description/>
  <dc:language>en-US</dc:language>
  <cp:lastModifiedBy>Peter Rob</cp:lastModifiedBy>
  <dcterms:modified xsi:type="dcterms:W3CDTF">2005-09-21T00:19:10Z</dcterms:modified>
  <cp:revision>12</cp:revision>
  <dc:subject/>
  <dc:title>No Slide Title</dc:title>
</cp:coreProperties>
</file>