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D80-C8D3-41DB-9999-9A4C711F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429-D00D-487A-89C9-3FD0B3AD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B6B-2A3E-40AE-A018-703E3710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AFF-21EC-43E7-AF6B-38508F63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DE4-4F5A-4BB6-87BC-B356CA0B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DE7-6BC4-4691-B935-7B991C3E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507-0E57-43F4-9016-8DA405B9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5E3-E1EE-45F5-BB28-DF267775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E42-4D5B-4011-8C5D-8242C770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1E6-293A-4163-9AF6-5CF5B48A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1F5-AB95-43B1-8A4D-9D8FD9F1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2C2-D6CE-4A2B-B955-B692AEBB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F1DD-94D9-4F0B-8765-D7BE33C98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286000"/>
            <a:ext cx="121932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37240" y="2286000"/>
            <a:ext cx="114300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98040" y="23605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41720" y="23493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00920" y="223524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a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37240" y="3352680"/>
            <a:ext cx="114300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15720" y="34290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6040" y="330192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v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495680" y="2400480"/>
            <a:ext cx="228600" cy="228600"/>
            <a:chOff x="4495680" y="2400480"/>
            <a:chExt cx="228600" cy="228600"/>
          </a:xfrm>
        </p:grpSpPr>
        <p:grpSp>
          <p:nvGrpSpPr>
            <p:cNvPr id="50" name=""/>
            <p:cNvGrpSpPr/>
            <p:nvPr/>
          </p:nvGrpSpPr>
          <p:grpSpPr>
            <a:xfrm>
              <a:off x="4495680" y="2400480"/>
              <a:ext cx="228600" cy="228600"/>
              <a:chOff x="4495680" y="2400480"/>
              <a:chExt cx="228600" cy="228600"/>
            </a:xfrm>
          </p:grpSpPr>
          <p:sp>
            <p:nvSpPr>
              <p:cNvPr id="51" name=""/>
              <p:cNvSpPr/>
              <p:nvPr/>
            </p:nvSpPr>
            <p:spPr>
              <a:xfrm>
                <a:off x="4495680" y="251460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495680" y="25149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4495680" y="240048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4495680" y="24004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108160" y="2870280"/>
            <a:ext cx="228600" cy="75960"/>
            <a:chOff x="2108160" y="2870280"/>
            <a:chExt cx="228600" cy="75960"/>
          </a:xfrm>
        </p:grpSpPr>
        <p:sp>
          <p:nvSpPr>
            <p:cNvPr id="56" name=""/>
            <p:cNvSpPr/>
            <p:nvPr/>
          </p:nvSpPr>
          <p:spPr>
            <a:xfrm>
              <a:off x="2108160" y="287028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8160" y="294624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959200" y="2400480"/>
            <a:ext cx="75960" cy="228600"/>
            <a:chOff x="2959200" y="2400480"/>
            <a:chExt cx="75960" cy="228600"/>
          </a:xfrm>
        </p:grpSpPr>
        <p:sp>
          <p:nvSpPr>
            <p:cNvPr id="59" name=""/>
            <p:cNvSpPr/>
            <p:nvPr/>
          </p:nvSpPr>
          <p:spPr>
            <a:xfrm>
              <a:off x="2959200" y="24004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35160" y="24004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222640" y="2743200"/>
            <a:ext cx="0" cy="83808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581280"/>
            <a:ext cx="129564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121896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514600"/>
            <a:ext cx="68580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495680" y="3467160"/>
            <a:ext cx="228600" cy="228600"/>
            <a:chOff x="4495680" y="3467160"/>
            <a:chExt cx="228600" cy="228600"/>
          </a:xfrm>
        </p:grpSpPr>
        <p:grpSp>
          <p:nvGrpSpPr>
            <p:cNvPr id="67" name=""/>
            <p:cNvGrpSpPr/>
            <p:nvPr/>
          </p:nvGrpSpPr>
          <p:grpSpPr>
            <a:xfrm>
              <a:off x="4495680" y="3467160"/>
              <a:ext cx="228600" cy="228600"/>
              <a:chOff x="4495680" y="3467160"/>
              <a:chExt cx="228600" cy="2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495680" y="358128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95680" y="358164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4495680" y="34671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4495680" y="346716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21:38Z</dcterms:created>
  <dc:creator>Peter Rob</dc:creator>
  <dc:description/>
  <dc:language>en-US</dc:language>
  <cp:lastModifiedBy>Peter Rob</cp:lastModifiedBy>
  <dcterms:modified xsi:type="dcterms:W3CDTF">2005-09-20T22:27:49Z</dcterms:modified>
  <cp:revision>10</cp:revision>
  <dc:subject/>
  <dc:title>No Slide Title</dc:title>
</cp:coreProperties>
</file>