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F713-263B-4749-B291-1E630024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C175-48FC-41E1-9EEF-95CDDD1E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D2B9-AB6A-46F5-BEF6-A608EC76E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ECDF-5384-488A-8B7F-B726F2307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4C91-8EA6-44DD-822B-6407BFC1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62EB-0F9C-4692-B29F-F1B3A6B7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C04B-8527-4283-94E3-BED172AD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DE95-93D5-454D-A342-09AC4BBE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E5CE-5D27-4188-B39D-D6F9A8A5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62A5-7FE9-4673-8453-DA338EA1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483C-8A9D-4F67-AE0B-23DFBA7F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7C33-1198-472D-ACCB-2D48BFBA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E6A0-A663-4205-B091-6979BB90D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52560" y="1905120"/>
            <a:ext cx="1361880" cy="457200"/>
          </a:xfrm>
          <a:prstGeom prst="flowChartDecision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44720" y="2895480"/>
            <a:ext cx="1346400" cy="457200"/>
          </a:xfrm>
          <a:prstGeom prst="rect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48400" y="99072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4880" y="19684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 assigned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25760" y="3124080"/>
            <a:ext cx="1218960" cy="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02800" y="812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03520" y="279396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44720" y="1892160"/>
            <a:ext cx="1333440" cy="457200"/>
          </a:xfrm>
          <a:prstGeom prst="flowChartDecision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44720" y="914400"/>
            <a:ext cx="1346400" cy="457200"/>
          </a:xfrm>
          <a:prstGeom prst="rect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0160" y="2971800"/>
            <a:ext cx="14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92400" y="1955880"/>
            <a:ext cx="8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n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0148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1480" y="1384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17920" y="2362320"/>
            <a:ext cx="0" cy="533160"/>
          </a:xfrm>
          <a:prstGeom prst="line">
            <a:avLst/>
          </a:prstGeom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517920" y="1371600"/>
            <a:ext cx="0" cy="533520"/>
          </a:xfrm>
          <a:prstGeom prst="line">
            <a:avLst/>
          </a:prstGeom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638360" y="2362320"/>
            <a:ext cx="0" cy="761760"/>
          </a:xfrm>
          <a:prstGeom prst="line">
            <a:avLst/>
          </a:prstGeom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638360" y="1142640"/>
            <a:ext cx="0" cy="762120"/>
          </a:xfrm>
          <a:prstGeom prst="line">
            <a:avLst/>
          </a:prstGeom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25760" y="1143000"/>
            <a:ext cx="1218960" cy="0"/>
          </a:xfrm>
          <a:prstGeom prst="line">
            <a:avLst/>
          </a:prstGeom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16:21:38Z</dcterms:created>
  <dc:creator>Peter Rob</dc:creator>
  <dc:description/>
  <dc:language>en-US</dc:language>
  <cp:lastModifiedBy>Peter Rob</cp:lastModifiedBy>
  <dcterms:modified xsi:type="dcterms:W3CDTF">2005-09-21T00:43:53Z</dcterms:modified>
  <cp:revision>9</cp:revision>
  <dc:subject/>
  <dc:title>No Slide Title</dc:title>
</cp:coreProperties>
</file>