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6E5-AD89-43F0-8134-D6301F51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819-912B-44BD-890D-F598C82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D8C-2AEF-477F-B98A-DF4D8311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2B3-13AE-4A99-B853-E97F1928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BC3-DBBF-4002-8DAD-316CA68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546-168F-47DE-A339-89E4BAC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06B-32A7-40C9-94CD-DE53EEF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DE0-C327-4F45-8A3D-6B578E0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EB8-9A04-4FB4-B85A-D3C9EE4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65D-B426-40A1-BB99-514DB6D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D93-7A13-4644-8D60-1CE34818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BE1-7513-4D3F-A5DC-175F2DD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897-708B-40BF-A7C1-DF1F31A1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175248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752480"/>
            <a:ext cx="1295280" cy="457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6960" y="183996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41560" y="18288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52480"/>
            <a:ext cx="1295640" cy="457200"/>
          </a:xfrm>
          <a:prstGeom prst="diamond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9520" y="18162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71440" y="198108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198108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2880" y="1522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5228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3680" y="110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n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416400"/>
            <a:ext cx="1295280" cy="4572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416400"/>
            <a:ext cx="1295280" cy="4572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6960" y="350352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34923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99520" y="33526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3320" y="353052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3492360"/>
            <a:ext cx="304920" cy="1526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3645000"/>
            <a:ext cx="304920" cy="1522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2360" y="288144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ow’s Foo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68880" y="353052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2240" y="3530520"/>
            <a:ext cx="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645000"/>
            <a:ext cx="25146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9T18:02:28Z</dcterms:created>
  <dc:creator>Peter Rob</dc:creator>
  <dc:description/>
  <dc:language>en-US</dc:language>
  <cp:lastModifiedBy>Peter Rob</cp:lastModifiedBy>
  <dcterms:modified xsi:type="dcterms:W3CDTF">2005-09-07T20:25:52Z</dcterms:modified>
  <cp:revision>6</cp:revision>
  <dc:subject/>
  <dc:title>No Slide Title</dc:title>
</cp:coreProperties>
</file>