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981-73FE-405C-AFD1-E09B7570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0995-504F-4D22-BB68-4DB63A93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22A1-75D7-4E67-97D4-50D5FA30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17F-EE71-49E3-B0DE-B20254FD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8C1-491B-4585-ABAA-708F35E1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745-1CF0-4E2D-B017-9158F9D4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905-128A-4DBF-BFEB-C98CF719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A01-0871-4E39-B0C4-1F0440DF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877-FA17-45D5-B21B-5DDD64CF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3E5-2126-45DA-ACA2-C686AF94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4DC-9B73-4A77-B4B4-2237A4CF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1E3-078B-48BA-AFEB-C0B82921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D1C6-71AB-48C8-B70B-16B5AE793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3640" y="927000"/>
            <a:ext cx="1905120" cy="25783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9680" y="927000"/>
            <a:ext cx="2222640" cy="21970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5240" y="1231920"/>
            <a:ext cx="2197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S_CODE                  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S_DESCRIPTION   C     CRS_CREDIT              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4280" y="9540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308240"/>
            <a:ext cx="222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200" y="2362320"/>
            <a:ext cx="11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4160" y="2666880"/>
            <a:ext cx="1277640" cy="38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5680" y="252720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20200" y="1295280"/>
            <a:ext cx="180396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U_NUM             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U_LNAME        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U_FNAME        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U_INITIAL       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U_DOB              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128268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85520" y="93996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9040" y="3441600"/>
            <a:ext cx="1742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te: C = Charac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 =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 = Nume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927000"/>
            <a:ext cx="2222280" cy="25909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7960" y="1244520"/>
            <a:ext cx="2260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ROLL_SEMESTER  C          ENROLL_GRADE        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9960" y="96696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1320840"/>
            <a:ext cx="222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65640" y="2768760"/>
            <a:ext cx="126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UDE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54280" y="3073320"/>
            <a:ext cx="1278000" cy="3812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48040" y="30733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38760" y="293364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2349360"/>
            <a:ext cx="1270080" cy="38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26160" y="219708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1968480"/>
            <a:ext cx="16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48040" y="234936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12160" y="927000"/>
            <a:ext cx="1904760" cy="3111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14320" y="1295280"/>
            <a:ext cx="18540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_CODE       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_DAYS        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_TIME        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_ROOM      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12160" y="128268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47120" y="9399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13160" y="3276720"/>
            <a:ext cx="161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ROLLM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13680" y="3581280"/>
            <a:ext cx="1278000" cy="3812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26280" y="2857680"/>
            <a:ext cx="1270080" cy="3808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24760" y="247644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URS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48200" y="2705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98160" y="342900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3060720"/>
            <a:ext cx="1277640" cy="380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90000" y="290844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05000" y="2743200"/>
            <a:ext cx="161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ROLLM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4T00:28:08Z</dcterms:created>
  <dc:creator>Peter Rob</dc:creator>
  <dc:description/>
  <dc:language>en-US</dc:language>
  <cp:lastModifiedBy>Peter Rob</cp:lastModifiedBy>
  <dcterms:modified xsi:type="dcterms:W3CDTF">2005-11-11T22:29:12Z</dcterms:modified>
  <cp:revision>20</cp:revision>
  <dc:subject/>
  <dc:title>No Slide Title</dc:title>
</cp:coreProperties>
</file>