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002-3D42-4F78-883E-262A9136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374-5F31-48CB-889F-9B5013F9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4A3-B0AF-4601-BE5D-36A08479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E36-6C4D-44F3-A205-B1A6A6A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849-01DC-4E29-9B3C-D51408F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403-29AE-4626-9347-A677985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070-1338-479C-8DAA-728471A6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CA1-2AD2-4B76-AFAE-E275A4C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AF7-CC83-4C7D-BFE3-ABE239B6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F44-DDA2-4363-8A2A-F0A96D20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16A-BAE5-422A-9EE0-4B9510F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0FE-2B7D-46D6-9E73-4954566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753-0811-4119-9809-48A66EAD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1727280"/>
            <a:ext cx="1676520" cy="5331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53160" y="1727280"/>
            <a:ext cx="1676520" cy="5331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6064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65760" y="3860640"/>
            <a:ext cx="1676520" cy="533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6800" y="183996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86600" y="1841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1400" y="171468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loc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68040" y="3973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07680" y="39751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8200" y="386064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assig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84440" y="28576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11960" y="1879560"/>
            <a:ext cx="228600" cy="228600"/>
            <a:chOff x="5511960" y="1879560"/>
            <a:chExt cx="228600" cy="228600"/>
          </a:xfrm>
        </p:grpSpPr>
        <p:grpSp>
          <p:nvGrpSpPr>
            <p:cNvPr id="53" name=""/>
            <p:cNvGrpSpPr/>
            <p:nvPr/>
          </p:nvGrpSpPr>
          <p:grpSpPr>
            <a:xfrm>
              <a:off x="5511960" y="1879560"/>
              <a:ext cx="228600" cy="228600"/>
              <a:chOff x="5511960" y="187956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>
                <a:off x="5511960" y="199368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511960" y="199404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5511960" y="18795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51196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89720" y="3631680"/>
            <a:ext cx="228600" cy="228960"/>
            <a:chOff x="6489720" y="3631680"/>
            <a:chExt cx="228600" cy="228960"/>
          </a:xfrm>
        </p:grpSpPr>
        <p:grpSp>
          <p:nvGrpSpPr>
            <p:cNvPr id="59" name=""/>
            <p:cNvGrpSpPr/>
            <p:nvPr/>
          </p:nvGrpSpPr>
          <p:grpSpPr>
            <a:xfrm>
              <a:off x="6489720" y="3631680"/>
              <a:ext cx="228240" cy="228960"/>
              <a:chOff x="6489720" y="3631680"/>
              <a:chExt cx="228240" cy="22896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6604200" y="3631680"/>
                <a:ext cx="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604200" y="3632040"/>
                <a:ext cx="11376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489720" y="3632040"/>
                <a:ext cx="11448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489720" y="363204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477120" y="2336760"/>
            <a:ext cx="228600" cy="75960"/>
            <a:chOff x="6477120" y="2336760"/>
            <a:chExt cx="228600" cy="75960"/>
          </a:xfrm>
        </p:grpSpPr>
        <p:sp>
          <p:nvSpPr>
            <p:cNvPr id="65" name=""/>
            <p:cNvSpPr/>
            <p:nvPr/>
          </p:nvSpPr>
          <p:spPr>
            <a:xfrm>
              <a:off x="6477120" y="233676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120" y="241272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537160" y="4025880"/>
            <a:ext cx="228600" cy="228600"/>
            <a:chOff x="5537160" y="4025880"/>
            <a:chExt cx="228600" cy="228600"/>
          </a:xfrm>
        </p:grpSpPr>
        <p:grpSp>
          <p:nvGrpSpPr>
            <p:cNvPr id="68" name=""/>
            <p:cNvGrpSpPr/>
            <p:nvPr/>
          </p:nvGrpSpPr>
          <p:grpSpPr>
            <a:xfrm>
              <a:off x="5537160" y="4025880"/>
              <a:ext cx="228600" cy="228600"/>
              <a:chOff x="5537160" y="4025880"/>
              <a:chExt cx="228600" cy="228600"/>
            </a:xfrm>
          </p:grpSpPr>
          <p:sp>
            <p:nvSpPr>
              <p:cNvPr id="69" name=""/>
              <p:cNvSpPr/>
              <p:nvPr/>
            </p:nvSpPr>
            <p:spPr>
              <a:xfrm>
                <a:off x="5537160" y="41400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37160" y="41403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5537160" y="40258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537160" y="4025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24080" y="1879560"/>
            <a:ext cx="76320" cy="228600"/>
            <a:chOff x="3124080" y="1879560"/>
            <a:chExt cx="76320" cy="228600"/>
          </a:xfrm>
        </p:grpSpPr>
        <p:sp>
          <p:nvSpPr>
            <p:cNvPr id="74" name=""/>
            <p:cNvSpPr/>
            <p:nvPr/>
          </p:nvSpPr>
          <p:spPr>
            <a:xfrm>
              <a:off x="312408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00400" y="187956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124080" y="4025880"/>
            <a:ext cx="76320" cy="228600"/>
            <a:chOff x="3124080" y="4025880"/>
            <a:chExt cx="76320" cy="228600"/>
          </a:xfrm>
        </p:grpSpPr>
        <p:sp>
          <p:nvSpPr>
            <p:cNvPr id="77" name=""/>
            <p:cNvSpPr/>
            <p:nvPr/>
          </p:nvSpPr>
          <p:spPr>
            <a:xfrm>
              <a:off x="3124080" y="4025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40258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591240" y="2260440"/>
            <a:ext cx="0" cy="6098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91240" y="3174840"/>
            <a:ext cx="0" cy="4572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981080"/>
            <a:ext cx="2514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140360"/>
            <a:ext cx="2590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20:03:48Z</dcterms:modified>
  <cp:revision>12</cp:revision>
  <dc:subject/>
  <dc:title>No Slide Title</dc:title>
</cp:coreProperties>
</file>