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A6C-682D-47BC-A169-E8FA97A7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182-EACC-4EF4-B737-73F94F51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A29-FC20-446F-9BAA-6D8A569F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AFE-F4D2-4FB4-BA79-2172E2CC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01F-491D-4137-9818-45029D40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B97-A29A-42C4-9BF9-F7A007FB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EF9-970C-4152-BB64-06C6FDE7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E58-86D0-4EBE-9041-08B4474C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0A5-260A-42DA-A5F5-E1347FD7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B3C-512A-4DC1-9539-197B1420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A21-5D8C-41C6-A792-7A88A8F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66C-6DD1-451A-AD3B-35C5D883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846B-CCCE-4401-9BE4-C6433510D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27600" y="1727280"/>
            <a:ext cx="1676520" cy="5331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27600" y="3860640"/>
            <a:ext cx="1676520" cy="533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2680" y="1727280"/>
            <a:ext cx="1676520" cy="5331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1040" y="1839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5440" y="184140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90880" y="17272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860640"/>
            <a:ext cx="1676520" cy="533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6480" y="39736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3360" y="3975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73240" y="38480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shown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23200" y="284472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referenc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86400" y="1879560"/>
            <a:ext cx="228600" cy="228600"/>
            <a:chOff x="5486400" y="1879560"/>
            <a:chExt cx="228600" cy="228600"/>
          </a:xfrm>
        </p:grpSpPr>
        <p:grpSp>
          <p:nvGrpSpPr>
            <p:cNvPr id="53" name=""/>
            <p:cNvGrpSpPr/>
            <p:nvPr/>
          </p:nvGrpSpPr>
          <p:grpSpPr>
            <a:xfrm>
              <a:off x="5486400" y="1879560"/>
              <a:ext cx="228600" cy="228600"/>
              <a:chOff x="5486400" y="1879560"/>
              <a:chExt cx="228600" cy="228600"/>
            </a:xfrm>
          </p:grpSpPr>
          <p:sp>
            <p:nvSpPr>
              <p:cNvPr id="54" name=""/>
              <p:cNvSpPr/>
              <p:nvPr/>
            </p:nvSpPr>
            <p:spPr>
              <a:xfrm>
                <a:off x="5486400" y="199368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486400" y="199404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5486400" y="18795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486400" y="18795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26360" y="3631680"/>
            <a:ext cx="228600" cy="228960"/>
            <a:chOff x="6426360" y="3631680"/>
            <a:chExt cx="228600" cy="228960"/>
          </a:xfrm>
        </p:grpSpPr>
        <p:grpSp>
          <p:nvGrpSpPr>
            <p:cNvPr id="59" name=""/>
            <p:cNvGrpSpPr/>
            <p:nvPr/>
          </p:nvGrpSpPr>
          <p:grpSpPr>
            <a:xfrm>
              <a:off x="6426360" y="3631680"/>
              <a:ext cx="228240" cy="228960"/>
              <a:chOff x="6426360" y="3631680"/>
              <a:chExt cx="228240" cy="22896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6540840" y="3631680"/>
                <a:ext cx="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540840" y="3632040"/>
                <a:ext cx="11376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6426360" y="3632040"/>
                <a:ext cx="11448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6426360" y="363204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413400" y="2400480"/>
            <a:ext cx="228600" cy="75960"/>
            <a:chOff x="6413400" y="2400480"/>
            <a:chExt cx="228600" cy="75960"/>
          </a:xfrm>
        </p:grpSpPr>
        <p:sp>
          <p:nvSpPr>
            <p:cNvPr id="65" name=""/>
            <p:cNvSpPr/>
            <p:nvPr/>
          </p:nvSpPr>
          <p:spPr>
            <a:xfrm>
              <a:off x="6413400" y="240048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13400" y="247644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124080" y="1879560"/>
            <a:ext cx="76320" cy="228600"/>
            <a:chOff x="3124080" y="1879560"/>
            <a:chExt cx="76320" cy="228600"/>
          </a:xfrm>
        </p:grpSpPr>
        <p:sp>
          <p:nvSpPr>
            <p:cNvPr id="68" name=""/>
            <p:cNvSpPr/>
            <p:nvPr/>
          </p:nvSpPr>
          <p:spPr>
            <a:xfrm>
              <a:off x="3124080" y="18795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00400" y="18795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486400" y="4013280"/>
            <a:ext cx="228600" cy="228600"/>
            <a:chOff x="5486400" y="4013280"/>
            <a:chExt cx="228600" cy="228600"/>
          </a:xfrm>
        </p:grpSpPr>
        <p:grpSp>
          <p:nvGrpSpPr>
            <p:cNvPr id="71" name=""/>
            <p:cNvGrpSpPr/>
            <p:nvPr/>
          </p:nvGrpSpPr>
          <p:grpSpPr>
            <a:xfrm>
              <a:off x="5486400" y="4013280"/>
              <a:ext cx="228600" cy="228600"/>
              <a:chOff x="5486400" y="4013280"/>
              <a:chExt cx="228600" cy="228600"/>
            </a:xfrm>
          </p:grpSpPr>
          <p:sp>
            <p:nvSpPr>
              <p:cNvPr id="72" name=""/>
              <p:cNvSpPr/>
              <p:nvPr/>
            </p:nvSpPr>
            <p:spPr>
              <a:xfrm>
                <a:off x="5486400" y="41274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486400" y="41277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5486400" y="401328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5486400" y="40132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124080" y="4013280"/>
            <a:ext cx="76320" cy="228600"/>
            <a:chOff x="3124080" y="4013280"/>
            <a:chExt cx="76320" cy="228600"/>
          </a:xfrm>
        </p:grpSpPr>
        <p:sp>
          <p:nvSpPr>
            <p:cNvPr id="77" name=""/>
            <p:cNvSpPr/>
            <p:nvPr/>
          </p:nvSpPr>
          <p:spPr>
            <a:xfrm>
              <a:off x="3124080" y="40132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40132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971800" y="1994040"/>
            <a:ext cx="2514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4127400"/>
            <a:ext cx="2514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27880" y="2286000"/>
            <a:ext cx="0" cy="13716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07T20:07:16Z</dcterms:modified>
  <cp:revision>13</cp:revision>
  <dc:subject/>
  <dc:title>No Slide Title</dc:title>
</cp:coreProperties>
</file>