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D43-5209-4570-BE27-1DF25FA8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377-EBA5-40C4-8388-F9DAC57C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19F-2A84-496A-B6B7-4BD884A3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0C1-7AC9-49E0-BAB0-2627471E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91A0-2B17-4D7E-839E-713A9E54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395-F692-431E-943E-78D1EEFA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BDC3-A474-4533-B263-94CEEBCD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2114-7755-4633-AF85-6CF40D8A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5F8-222F-4440-B487-B6ED086C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B03E-50EB-47FA-B514-B12BAB82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2FEA-0979-4454-9140-7CD41B55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18E-D1A5-414B-9C60-CAF782D6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0483-AA36-488C-BE1F-DC732021B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1828800" cy="14479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2514600"/>
            <a:ext cx="1295640" cy="457200"/>
          </a:xfrm>
          <a:prstGeom prst="rect">
            <a:avLst/>
          </a:prstGeom>
          <a:solidFill>
            <a:srgbClr val="ffcc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6960" y="183996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42760" y="259092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5160" y="2297520"/>
            <a:ext cx="3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9T18:02:28Z</dcterms:created>
  <dc:creator>Peter Rob</dc:creator>
  <dc:description/>
  <dc:language>en-US</dc:language>
  <cp:lastModifiedBy>Peter Rob</cp:lastModifiedBy>
  <dcterms:modified xsi:type="dcterms:W3CDTF">2005-09-21T00:45:32Z</dcterms:modified>
  <cp:revision>5</cp:revision>
  <dc:subject/>
  <dc:title>No Slide Title</dc:title>
</cp:coreProperties>
</file>