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672-FEC5-48E9-A5E6-873F466A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944-7A26-4877-8867-4266B5F5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DC0-E87E-49DB-B541-DAB9E438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8D2-3570-4068-A50D-DEF30A05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F38-E426-4BD8-90BB-6254829C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8E6-15AA-47DC-A694-05758BDC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F57-0897-41DE-831D-D793974C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45A-70CE-4D1A-B33F-CCD0AC5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08C-775E-4DE1-89C0-503DB40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A60-14DB-4C46-B2C8-C1E902E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89B-97BA-4C12-81B8-AD0FD62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C8E-2EB6-4073-854D-F8AA1B7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1AD-8083-49BF-B9D2-48DE958CA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4840" y="1828800"/>
            <a:ext cx="129564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0080" y="1828800"/>
            <a:ext cx="129528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960" y="1828800"/>
            <a:ext cx="129528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360" y="19033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8000" y="187956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65000" y="2057400"/>
            <a:ext cx="60948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0480" y="2057400"/>
            <a:ext cx="60948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61000" y="1636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9960" y="1905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79760" y="165096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1T00:02:34Z</dcterms:modified>
  <cp:revision>10</cp:revision>
  <dc:subject/>
  <dc:title>No Slide Title</dc:title>
</cp:coreProperties>
</file>