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9BC-4534-44FE-8A7E-2C32564D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2A24-6625-4DC6-9CA4-95E8196C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5EE-FA6F-420B-BC1E-3AFF2F97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F18-05E2-4817-8B75-F0B9D549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392-FA50-4D7B-990D-08F4FEB9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D43-F85B-4F6B-BDF6-131917D1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4DA-1663-49BB-A53A-4E10FF0C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C08-50BE-4824-8E09-F1319F33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EAF-0E87-4394-AF1A-6615D20E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FD0-A202-48F4-9C14-50349E31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7A6-1739-4464-8D45-7DA27563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184-0E52-48E5-BF3D-DC42E32C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6430-8EFD-418F-B748-2A0672B0F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10400" y="1595520"/>
            <a:ext cx="1295640" cy="457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0520" y="1595520"/>
            <a:ext cx="1295280" cy="457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36160" y="168264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14800" y="167148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05640" y="1595520"/>
            <a:ext cx="1295280" cy="457200"/>
          </a:xfrm>
          <a:prstGeom prst="diamond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10920" y="1658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95800" y="1824120"/>
            <a:ext cx="60984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00920" y="1824120"/>
            <a:ext cx="60948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96880" y="1365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07640" y="136584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584360"/>
            <a:ext cx="1295640" cy="457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2040" y="167148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ES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84680" y="3641760"/>
            <a:ext cx="1295280" cy="457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0280" y="372888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14920" y="5710320"/>
            <a:ext cx="1295280" cy="457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45240" y="579744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_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25720" y="2598840"/>
            <a:ext cx="1295640" cy="457200"/>
          </a:xfrm>
          <a:prstGeom prst="diamond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25880" y="266220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38680" y="4656240"/>
            <a:ext cx="1295280" cy="457200"/>
          </a:xfrm>
          <a:prstGeom prst="diamond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89240" y="47196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clu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9400" y="3652920"/>
            <a:ext cx="1295640" cy="457200"/>
          </a:xfrm>
          <a:prstGeom prst="diamond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20320" y="370044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r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48040" y="3881520"/>
            <a:ext cx="17413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38200" y="2052360"/>
            <a:ext cx="0" cy="160020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486320" y="2052360"/>
            <a:ext cx="0" cy="53316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86320" y="3043080"/>
            <a:ext cx="0" cy="6098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486320" y="4109760"/>
            <a:ext cx="0" cy="53316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86320" y="5100480"/>
            <a:ext cx="0" cy="6098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22720" y="208980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83120" y="334692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90840" y="205164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1440" y="349920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33880" y="410904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83120" y="540432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3280" y="5732640"/>
            <a:ext cx="1295640" cy="457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4960" y="581976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30800" y="551376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35080" y="5727600"/>
            <a:ext cx="1295640" cy="457200"/>
          </a:xfrm>
          <a:prstGeom prst="diamond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77560" y="57913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 recorded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58440" y="5518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523880" y="5958000"/>
            <a:ext cx="5335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958000"/>
            <a:ext cx="53316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9T18:02:28Z</dcterms:created>
  <dc:creator>Peter Rob</dc:creator>
  <dc:description/>
  <dc:language>en-US</dc:language>
  <cp:lastModifiedBy>Peter Rob</cp:lastModifiedBy>
  <dcterms:modified xsi:type="dcterms:W3CDTF">2005-09-20T23:45:13Z</dcterms:modified>
  <cp:revision>5</cp:revision>
  <dc:subject/>
  <dc:title>No Slide Title</dc:title>
</cp:coreProperties>
</file>