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D2C-D38C-49A1-B3B3-C33973E9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910-FA29-411C-9970-C1D663CD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367A-CDA5-407F-9950-99EBFE0A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6C4-ACD1-4418-A572-8D2BF9E4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5AB-45BF-436E-BCF3-68C8E119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699-A816-4F69-B38B-66FF5790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A81-53A5-43A6-816D-610086AA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6A1-7915-4BF1-84BC-8199814D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2B7-B0B0-40C4-A41A-2EB6815F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EA0-673A-411B-ACC5-E5FCFFD8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476-D044-470A-A82B-EA622239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24B-287A-4F14-9A53-9ADEADFE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199C-C97F-4A64-9FAA-2715B0824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20960" y="2705040"/>
            <a:ext cx="1752840" cy="38124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26160" y="27813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01920" y="2438280"/>
            <a:ext cx="1752840" cy="38124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44720" y="2171880"/>
            <a:ext cx="1752840" cy="38088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87520" y="1905120"/>
            <a:ext cx="1752840" cy="38088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8920" y="839880"/>
            <a:ext cx="1676520" cy="609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9840" y="99072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7400" y="19432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75480" y="2247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7120" y="251460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93440" y="990720"/>
            <a:ext cx="13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ent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05880" y="231156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ild Seg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4479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49640" y="1447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1892160"/>
            <a:ext cx="228600" cy="1155960"/>
          </a:xfrm>
          <a:custGeom>
            <a:avLst/>
            <a:gdLst>
              <a:gd name="textAreaLeft" fmla="*/ 0 w 228600"/>
              <a:gd name="textAreaRight" fmla="*/ 82440 w 228600"/>
              <a:gd name="textAreaTop" fmla="*/ 29880 h 1155960"/>
              <a:gd name="textAreaBottom" fmla="*/ 1126080 h 115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13:51:07Z</dcterms:created>
  <dc:creator>Peter Rob</dc:creator>
  <dc:description/>
  <dc:language>en-US</dc:language>
  <cp:lastModifiedBy>Peter Rob</cp:lastModifiedBy>
  <dcterms:modified xsi:type="dcterms:W3CDTF">2005-09-07T01:36:18Z</dcterms:modified>
  <cp:revision>11</cp:revision>
  <dc:subject/>
  <dc:title>No Slide Title</dc:title>
</cp:coreProperties>
</file>