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D3B-1731-491B-B153-2D72335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2DF-C7FC-470E-BED9-247EF23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C7E-75F0-4474-A90D-8AB96B66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F0F-8DA7-4372-A8DF-50CA082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231-9A55-40E3-9332-55B74C1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275-2F7A-4172-BF2D-738C8B8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B46-7892-4647-BFFE-3938C85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CEB-EFBE-4D9F-9E28-85234BB7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1E4-AC67-437C-88C7-39985AF4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945-89DF-4DF4-A6CE-ACF8674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DF8-EDB5-41D4-A182-1D1656E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31B-1B70-4C50-939F-6A75643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5E3E-2FDE-4278-BF09-2061C9332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76212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743200"/>
            <a:ext cx="129564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743200"/>
            <a:ext cx="1295280" cy="457200"/>
          </a:xfrm>
          <a:prstGeom prst="rect">
            <a:avLst/>
          </a:prstGeom>
          <a:solidFill>
            <a:srgbClr val="ccec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8177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25200" y="83808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7000" y="2679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8920" y="281952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81400" y="180324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960" y="1130400"/>
            <a:ext cx="445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ember that a  1:M relationship is always read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“1” side to the “M” side. Therefore, the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tween  FACTORY  and REGION is properly read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ory employs employe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105520" y="2857680"/>
            <a:ext cx="228600" cy="228600"/>
            <a:chOff x="5105520" y="2857680"/>
            <a:chExt cx="228600" cy="228600"/>
          </a:xfrm>
        </p:grpSpPr>
        <p:grpSp>
          <p:nvGrpSpPr>
            <p:cNvPr id="51" name=""/>
            <p:cNvGrpSpPr/>
            <p:nvPr/>
          </p:nvGrpSpPr>
          <p:grpSpPr>
            <a:xfrm>
              <a:off x="5105520" y="2857680"/>
              <a:ext cx="228600" cy="228600"/>
              <a:chOff x="5105520" y="2857680"/>
              <a:chExt cx="228600" cy="228600"/>
            </a:xfrm>
          </p:grpSpPr>
          <p:sp>
            <p:nvSpPr>
              <p:cNvPr id="52" name=""/>
              <p:cNvSpPr/>
              <p:nvPr/>
            </p:nvSpPr>
            <p:spPr>
              <a:xfrm>
                <a:off x="5105520" y="2971800"/>
                <a:ext cx="2286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105520" y="297216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105520" y="2857680"/>
                <a:ext cx="228600" cy="11412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5105520" y="2857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867280" y="1218960"/>
            <a:ext cx="228600" cy="228960"/>
            <a:chOff x="5867280" y="1218960"/>
            <a:chExt cx="228600" cy="228960"/>
          </a:xfrm>
        </p:grpSpPr>
        <p:grpSp>
          <p:nvGrpSpPr>
            <p:cNvPr id="57" name=""/>
            <p:cNvGrpSpPr/>
            <p:nvPr/>
          </p:nvGrpSpPr>
          <p:grpSpPr>
            <a:xfrm>
              <a:off x="5867280" y="1218960"/>
              <a:ext cx="228240" cy="228960"/>
              <a:chOff x="5867280" y="1218960"/>
              <a:chExt cx="228240" cy="228960"/>
            </a:xfrm>
          </p:grpSpPr>
          <p:sp>
            <p:nvSpPr>
              <p:cNvPr id="58" name=""/>
              <p:cNvSpPr/>
              <p:nvPr/>
            </p:nvSpPr>
            <p:spPr>
              <a:xfrm>
                <a:off x="5981760" y="1219320"/>
                <a:ext cx="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5981760" y="1218960"/>
                <a:ext cx="11376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5867280" y="1218960"/>
                <a:ext cx="114480" cy="2286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867280" y="144792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867280" y="2565360"/>
            <a:ext cx="228600" cy="75960"/>
            <a:chOff x="5867280" y="2565360"/>
            <a:chExt cx="228600" cy="75960"/>
          </a:xfrm>
        </p:grpSpPr>
        <p:sp>
          <p:nvSpPr>
            <p:cNvPr id="63" name=""/>
            <p:cNvSpPr/>
            <p:nvPr/>
          </p:nvSpPr>
          <p:spPr>
            <a:xfrm>
              <a:off x="5867280" y="256536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2641320"/>
              <a:ext cx="22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933640" y="2857680"/>
            <a:ext cx="76320" cy="228600"/>
            <a:chOff x="2933640" y="2857680"/>
            <a:chExt cx="76320" cy="228600"/>
          </a:xfrm>
        </p:grpSpPr>
        <p:sp>
          <p:nvSpPr>
            <p:cNvPr id="66" name=""/>
            <p:cNvSpPr/>
            <p:nvPr/>
          </p:nvSpPr>
          <p:spPr>
            <a:xfrm>
              <a:off x="2933640" y="2857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09960" y="2857680"/>
              <a:ext cx="0" cy="228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19520" y="2971800"/>
            <a:ext cx="22860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81760" y="1447920"/>
            <a:ext cx="0" cy="129528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5-09-21T19:55:11Z</dcterms:modified>
  <cp:revision>12</cp:revision>
  <dc:subject/>
  <dc:title>No Slide Title</dc:title>
</cp:coreProperties>
</file>