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90C2-B2D3-4AF2-A959-6A39B49B3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EEDB-9251-4D6A-9633-9763522C5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30B8-BA35-4E69-8DDE-8EEF24B55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699D-7B55-49CD-B850-300B5F49C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D5B7-EEDC-409B-95D2-DC78C4697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A61E-F045-40E8-A366-7B0813768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9272-494C-4C74-BCD4-1EB9F80F0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0BF8-FB96-43B0-A9CF-B85E236C3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EEB7-FB31-47DD-9988-5861CDE11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0FBD-DEC6-4393-937D-3A77E8F7D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EC57-A500-46FA-B902-1D14CA22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874E-3DE5-4050-B36B-B38AFE94B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8F1C9-061C-4DB0-8E55-A7F263A3CC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24080" y="4138560"/>
            <a:ext cx="1905120" cy="1600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80920" y="4124160"/>
            <a:ext cx="1905120" cy="1600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92080" y="228600"/>
            <a:ext cx="1905120" cy="36576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44720" y="2743200"/>
            <a:ext cx="1371600" cy="45720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44720" y="2133720"/>
            <a:ext cx="1371600" cy="45720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36800" y="1523880"/>
            <a:ext cx="1371600" cy="45720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97480" y="30384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VO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72800" y="578160"/>
            <a:ext cx="1386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V_NU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V_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V_TO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98000" y="1599120"/>
            <a:ext cx="12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98800" y="2208600"/>
            <a:ext cx="103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V_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73240" y="2818440"/>
            <a:ext cx="109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LESR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645000" y="228600"/>
            <a:ext cx="1904760" cy="33526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97280" y="2971800"/>
            <a:ext cx="1371600" cy="45720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97280" y="2362320"/>
            <a:ext cx="1371600" cy="45720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685680" y="303840"/>
            <a:ext cx="12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62800" y="569520"/>
            <a:ext cx="16923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US_NU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US_LAST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US_FIRST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US_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US_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US_ST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US_Z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28040" y="243720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VO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52440" y="3047040"/>
            <a:ext cx="107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Y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392880" y="228600"/>
            <a:ext cx="1905120" cy="26668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477120" y="2286000"/>
            <a:ext cx="1371600" cy="45720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469200" y="1676520"/>
            <a:ext cx="1371600" cy="45720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15560" y="303840"/>
            <a:ext cx="103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V_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573600" y="569880"/>
            <a:ext cx="1386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V_NU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INE_N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INE_PRIC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INE_UN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09600" y="1751400"/>
            <a:ext cx="105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667920" y="236124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VO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455200" y="13705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418120" y="1980000"/>
            <a:ext cx="34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455200" y="25898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70680" y="2208600"/>
            <a:ext cx="34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70680" y="2818440"/>
            <a:ext cx="34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841880" y="15228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867080" y="21326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50840" y="3352680"/>
            <a:ext cx="1371600" cy="45720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93400" y="3427920"/>
            <a:ext cx="107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Y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422800" y="3199320"/>
            <a:ext cx="34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57640" y="5176800"/>
            <a:ext cx="1371600" cy="45720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336120" y="5252040"/>
            <a:ext cx="12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29240" y="5023440"/>
            <a:ext cx="34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044720" y="5172120"/>
            <a:ext cx="1371600" cy="45720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244880" y="524736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VO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416320" y="5018760"/>
            <a:ext cx="34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95320" y="4161240"/>
            <a:ext cx="109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LESR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36160" y="4428000"/>
            <a:ext cx="1287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P_L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P_F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163680" y="4204080"/>
            <a:ext cx="107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Y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393360" y="4442040"/>
            <a:ext cx="1443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Y_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Y_AM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526000" y="4133880"/>
            <a:ext cx="1905120" cy="1600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659560" y="5172120"/>
            <a:ext cx="1371600" cy="45720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829840" y="5247360"/>
            <a:ext cx="103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V_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031160" y="5018760"/>
            <a:ext cx="34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79280" y="4199400"/>
            <a:ext cx="105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794560" y="4437360"/>
            <a:ext cx="167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OD_DESCRI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OD_PR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9T19:44:30Z</dcterms:created>
  <dc:creator>Peter Rob</dc:creator>
  <dc:description/>
  <dc:language>en-US</dc:language>
  <cp:lastModifiedBy>Peter Rob</cp:lastModifiedBy>
  <dcterms:modified xsi:type="dcterms:W3CDTF">2005-11-11T22:55:45Z</dcterms:modified>
  <cp:revision>10</cp:revision>
  <dc:subject/>
  <dc:title>No Slide Title</dc:title>
</cp:coreProperties>
</file>