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474-9995-48EE-AC3E-477B2D52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AE5-1F88-40D3-B911-BC96B715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6F3-0B60-46B5-AFD1-2FF91394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689-50DF-49E6-8A89-B0359651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3EC-6529-479C-B216-9CCDF7D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5B9-1BC4-4C4C-B674-172BFA0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7A3-444F-43DC-8BE9-69B9043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BE0-A737-456A-A53B-2C7C9282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E2E-2E70-4E58-86AA-E89EFC0D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B4E-7E48-44E5-90C4-50DF99B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808-0D36-435E-88D0-F0A18E6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6ED-766B-4952-8755-C7D11FF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2B0-40A5-4B93-85BA-1A9E0E988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5257800"/>
            <a:ext cx="167652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029200"/>
            <a:ext cx="167652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3352680"/>
            <a:ext cx="167616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124080"/>
            <a:ext cx="182880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1371600"/>
            <a:ext cx="1676160" cy="685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0520" y="13352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002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dy D. Johan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32760" y="1041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81952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5160" y="2717640"/>
            <a:ext cx="1676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41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Mar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e J. Mora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819520"/>
            <a:ext cx="167652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040" y="2782800"/>
            <a:ext cx="155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e J. Mora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16120" y="3022560"/>
            <a:ext cx="1676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3245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Mar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rge G. Och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3400" y="3378240"/>
            <a:ext cx="160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2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rge G. Och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65440" y="2514240"/>
            <a:ext cx="0" cy="30492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9880" y="2514600"/>
            <a:ext cx="4572000" cy="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86680" y="2514600"/>
            <a:ext cx="0" cy="30492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057400"/>
            <a:ext cx="0" cy="45720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9600" y="2781360"/>
            <a:ext cx="120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_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6640" y="251460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7600" y="25146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167616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733920"/>
            <a:ext cx="0" cy="106668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4764240"/>
            <a:ext cx="149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5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ml. 3x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2480" y="4992840"/>
            <a:ext cx="14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3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tablet per m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88880" y="5221440"/>
            <a:ext cx="143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8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mg. Each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120" y="449424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4:46:39Z</dcterms:created>
  <dc:creator>Peter Rob</dc:creator>
  <dc:description/>
  <dc:language>en-US</dc:language>
  <cp:lastModifiedBy>Peter Rob</cp:lastModifiedBy>
  <dcterms:modified xsi:type="dcterms:W3CDTF">2005-09-07T01:46:37Z</dcterms:modified>
  <cp:revision>10</cp:revision>
  <dc:subject/>
  <dc:title>No Slide Title</dc:title>
</cp:coreProperties>
</file>