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90EC-FF0D-422C-9E4D-22F8F2C9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1C48-A027-4213-BF93-23F9E12F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1F93-7F3D-48AC-9505-57FD52B09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5985-201E-4CDE-995D-8DEBCBB60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AF12-4FAE-434D-9A96-9333B468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786D-A3E3-46EC-87E3-47BF3594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3500-022A-4B6E-B646-F3C682FB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DE80-B625-4F84-BF14-7F55A500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7BDF-48AB-463B-A7F4-A2C7A772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E198-8606-499A-ABDE-5EC107E4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6068-0839-4C0D-B76B-0940C625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5CC7-6C80-4C27-A3E2-7287980D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D7FD-9486-492F-B925-216678006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990720"/>
            <a:ext cx="7620120" cy="47242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4120" y="3103560"/>
            <a:ext cx="1752480" cy="990720"/>
          </a:xfrm>
          <a:prstGeom prst="rect">
            <a:avLst/>
          </a:prstGeom>
          <a:solidFill>
            <a:srgbClr val="ccffff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9880" y="1542960"/>
            <a:ext cx="1752840" cy="762120"/>
          </a:xfrm>
          <a:prstGeom prst="rect">
            <a:avLst/>
          </a:prstGeom>
          <a:solidFill>
            <a:srgbClr val="99ccff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79440" y="1170000"/>
            <a:ext cx="22258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Times New Roman"/>
              </a:rPr>
              <a:t>PAT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0033cc"/>
                </a:solidFill>
                <a:latin typeface="Times New Roman"/>
              </a:rPr>
              <a:t>PAT_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0033cc"/>
                </a:solidFill>
                <a:latin typeface="Times New Roman"/>
              </a:rPr>
              <a:t>PAT_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2498760"/>
            <a:ext cx="2225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ff"/>
                </a:solidFill>
                <a:latin typeface="Times New Roman"/>
              </a:rPr>
              <a:t>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ff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6666ff"/>
                </a:solidFill>
                <a:latin typeface="Times New Roman"/>
              </a:rPr>
              <a:t>ORD_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ff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6666ff"/>
                </a:solidFill>
                <a:latin typeface="Times New Roman"/>
              </a:rPr>
              <a:t>ORD_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ff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6666ff"/>
                </a:solidFill>
                <a:latin typeface="Times New Roman"/>
              </a:rPr>
              <a:t>ORD_DO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4037040"/>
            <a:ext cx="22255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Times New Roman"/>
              </a:rPr>
              <a:t>MED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669900"/>
                </a:solidFill>
                <a:latin typeface="Times New Roman"/>
              </a:rPr>
              <a:t>MED_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669900"/>
                </a:solidFill>
                <a:latin typeface="Times New Roman"/>
              </a:rPr>
              <a:t>MED_DOSAGE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84400" y="150660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1002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dy D. Johans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9880" y="2874960"/>
            <a:ext cx="1752840" cy="990720"/>
          </a:xfrm>
          <a:prstGeom prst="rect">
            <a:avLst/>
          </a:prstGeom>
          <a:solidFill>
            <a:srgbClr val="ccffff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10240" y="2838600"/>
            <a:ext cx="16315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2412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3-Jan-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ne M. Mora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29240" y="3067200"/>
            <a:ext cx="1601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3245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3-Jan-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eorge G. Ocho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4703760"/>
            <a:ext cx="1752480" cy="762120"/>
          </a:xfrm>
          <a:prstGeom prst="rect">
            <a:avLst/>
          </a:prstGeom>
          <a:solidFill>
            <a:srgbClr val="ccffcc"/>
          </a:solidFill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57800" y="4551480"/>
            <a:ext cx="1752480" cy="761760"/>
          </a:xfrm>
          <a:prstGeom prst="rect">
            <a:avLst/>
          </a:prstGeom>
          <a:solidFill>
            <a:srgbClr val="ccffcc"/>
          </a:solidFill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9880" y="4398840"/>
            <a:ext cx="1752840" cy="762120"/>
          </a:xfrm>
          <a:prstGeom prst="rect">
            <a:avLst/>
          </a:prstGeom>
          <a:solidFill>
            <a:srgbClr val="ccffcc"/>
          </a:solidFill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4760" y="4362480"/>
            <a:ext cx="154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225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 ml. 3x  per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60920" y="4514760"/>
            <a:ext cx="1465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232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 tablet per me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4667400"/>
            <a:ext cx="1459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2288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 mg. each 8 h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3865680"/>
            <a:ext cx="0" cy="53316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319480"/>
            <a:ext cx="0" cy="53316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6T19:03:26Z</dcterms:created>
  <dc:creator>Peter Rob</dc:creator>
  <dc:description/>
  <dc:language>en-US</dc:language>
  <cp:lastModifiedBy>Peter Rob</cp:lastModifiedBy>
  <dcterms:modified xsi:type="dcterms:W3CDTF">2007-01-23T20:58:40Z</dcterms:modified>
  <cp:revision>13</cp:revision>
  <dc:subject/>
  <dc:title>No Slide Title</dc:title>
</cp:coreProperties>
</file>