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7B0-3688-41CB-89F3-3EB8AAE03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B4B6-E01F-410D-B25C-508758CF9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has a hybrid system built in.  It uses RSA for public-key encryption (with -- I believe -- a 512-bit key) and DES for secret-key encry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GP also uses a hybrid system with RSA for the  public-key part, and IDEA for secret-key encry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one trial division per nanosecond (very fast!), the s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algorithm takes approximately 10^106 secon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bout 30 x 10^97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ster algorithm takes approximately 3.87 x 10^16  seconds, about  100 millio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stest known algorithm would take about 4 minutes (assuming one trial division per nanosecond).  Increasing the modulus to 1024 bits would increase the number of trial divisions to 2^46 or 7 x 10^13, taking 70,000,000 seconds, a little over 2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can very quickly search a document for a specified phrase (e.g.,  "Top secret" or "Social Security Number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C58-EB90-4576-A815-59077288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B74-E903-4A96-A137-30668112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863-59F3-4975-BB44-B20ECD93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5F0-7698-4B2A-8112-A4D54861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CFB-023B-4AC5-8D21-55A83AF1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EE5-7F37-4CA9-801A-6425B9D1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FDC-7D41-4483-81A3-E0E9F3E8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5D3-3447-43E4-87DF-6F65EAA1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133-4A87-450A-94F5-EF141BD7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17F-95BE-4424-93F0-F1A3D4A8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741-3AEB-496F-98A6-821B444F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C94-8945-4C54-A26C-F3163AEE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3D3C-85AD-4517-8C12-62BFF5DFC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047760"/>
            <a:ext cx="6705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tclair State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PT 109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W. Benh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ing, 19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Commerce (continue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wants to order brownies from Alice and keep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tire trans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iv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sends Alice his public k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generates a session key, encrypts it using Bob’s public key, and sends it to B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the session key (and an agreed-upon symmetric encryption algorithm) to encrypt his order, and sends it to A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Signatures: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igning a Documen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applies a (publicly known)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sh fun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document that she wishes to “sign.” This function produces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ig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document (usually a numb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then uses he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“encrypt” the dig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can then send, or even broadcast, the document with the encrypted dige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Signature Verific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Alice’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“decrypt” the digest that Alice “encrypted” with her private k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applies the hash function to the document to obtain the digest dire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compares these two values for the digest.  If they match, it proves that Alice signed the document and that no one else has altere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ecure Transmission of Digitally Signed Document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uses he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v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digitally sign a document.  She then uses Bob’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encrypt this digitally signed docu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h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decrypt the document.  The result is Alice’s digitally signed docu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Alice’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verify Alice’s digital sign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ical 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76: W. Diffie and M.E. Hellman proposed the first public-key encryption algorithms -- actually an algorithm for public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x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ecret k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78: L.M Adleman, R.L. Rivest and A. Shamir propose the RSA encryption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ly the most widely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s for the spreadsheet used in the l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RSA Encryption Algorith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random process to select two large prime number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Compute the produc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 = P*Q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This number is called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dul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is made publicly avai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SA currently recommends a modulus that’s at least 768 bits lo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compute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uler toti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 = (P-1)*(Q-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Keep this number (as well a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secr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SA (continue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ly choose a public ke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has no factors in common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 = (P-1)*(Q-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 a private ke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 tha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*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aves a remainder of 1 when divided 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sa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*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ngru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easy to compute only if one knows the value of T.  This is essentially the same as knowing the values of P and Q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SA (continue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ny number that is not divisible 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n divid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E*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aking the remainder yields the original valu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relatively deep mathematical theorem, which we can write a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E*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mod M =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numeric encoding of a block of plaintext, the cyphertex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s C = N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d 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d M  =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mod M  =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E*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mod M = 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Thus, we can recover the plaintex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the private ke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RSA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ying P by Q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as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number of operations depends on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umber of bi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number of digits) in P and Q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multiplying two 384-bit numbers takes approximate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8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47,456 bit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RSA Work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ne knows only M, finding  P and Q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n essence, the number of operations depends on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alu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mplest method for factoring a 768-bit number takes about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84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.94 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ial div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ore sophisticated methods takes about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5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.87 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ial div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ill more sophisticated method takes about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1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19,000,000,000 trial divis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Cryptograp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yptography -- from the Greek for “secret writing” -- is the mathematical “scrambling” of data so that only someone with the necessar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 “unscramble”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yptography allows secure transmission of private information over insecure channels (for example packet-switched network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yptography also allows secure storage of sensitive data on any compu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RSA Works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-one has found an really quick algorithm  for factoring a large numbe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-one has proven that such a quick algorithm doesn’t exist (or even that one is unlikely to exis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er Shor has devised a very fast factoring algorithm for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quantum compu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if anyone manages to build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ical Cryptography: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ecret-Key or Symmetric Cryptography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and Bob agree on an encryption method and a share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uses the key and the encryption metho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cry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cip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a message and sends it to B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the same key and the related decryption metho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cry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cip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he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of Classical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ome very fast classical encryption (and decryption)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the speed of a method varies with the length of the key, faster algorithms allow one to use longer key val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key values make it harder to guess the key valu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- and break the code -- by brute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Classical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equires secure transmission of key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a separate key for each group of people that wishes to exchange encrypted messages (readable by any group memb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, to have a separate key for each pair of people, 100 people would need 4950 different  k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: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symmetric Cryptograph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generates a key value (usually a number or pair of related numbers) which she makes public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uses her public key (and some additional information) to determine a second key (he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keeps her private key (and the additional information she used to construct it) secr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 (continue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(or Carol, or anyone else) can use Alice’s public key to encrypt a message for A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can use her private key to decrypt this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-one without access to Alice’s private key (or the information used to construct it) can easily decrypt the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 Example: Internet 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wants to use his credit card to buy some brownies from Alice over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sends her public key to B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this key to encrypt his credit-card number and sends the encrypted number to A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uses her private key to decrypt this message (and get Bob’s credit-card numb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ybrid Encryp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known public key encryption algorithms are much slower than the fastest secret-key algorith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ybri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, Alice uses Bob’s public key to send him a secret share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ssion k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and Bob use the session key to exchang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2T02:50:08Z</dcterms:created>
  <dc:creator>James Benham</dc:creator>
  <dc:description/>
  <dc:language>en-US</dc:language>
  <cp:lastModifiedBy>James Benham</cp:lastModifiedBy>
  <cp:lastPrinted>1998-04-29T03:58:59Z</cp:lastPrinted>
  <dcterms:modified xsi:type="dcterms:W3CDTF">1998-04-29T04:13:31Z</dcterms:modified>
  <cp:revision>7</cp:revision>
  <dc:subject/>
  <dc:title>Public-key Encryption</dc:title>
</cp:coreProperties>
</file>